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BA3CA38-A58C-4BC3-A28E-4C1CD6928FD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934A4FB6-1BEC-4571-863F-2B9ED763E47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E740941E-FCEB-43A3-BF73-7E173657B83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6386C412-8ED3-460F-B3F4-4A1F1B7F168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B159C269-63FC-4412-8352-35A1C1E628F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315B10-5A5D-48AB-8EDA-6C7C3035BB8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A497F921-A8B6-495C-9E33-0AD55A5F948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9F887C81-00A4-4118-96B9-E2EF8A913AD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5B37E2F7-B392-4312-B51E-90DCF4AA0D6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4F491CC-73C0-469E-AC5E-CAB30B74EF5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ED402A8-D4AC-4A48-A59C-CACED771485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285254D-9DBF-4EC3-8D51-3E733D7417B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29DE56-1A4B-4540-BE75-4D1BCCF0304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7C9B959-C11F-45DE-B7CE-6649262D8146}"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B754BCE-B7AE-4BCE-9FEE-57C0AA83B266}"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F5448AA-5B23-4D95-B394-B81A7EC5F86C}"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06021DC-46F5-4A31-B9DD-4C9A73FD1417}"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88B0FA-D7CD-49E2-9DE1-5BC02E165E2E}"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4C46A3-1048-4323-9F17-8D02F71C8468}"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02FE900-594E-4B78-BFEE-00297CDEEC91}"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5E2ABD-9EEF-4380-BBD3-51C46D8DCC0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C618F6-138E-42ED-AF97-802062D94BD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E7ECEBD-09A3-4318-8D96-E47B42C3A4F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ACEFFC-10F2-4824-A953-CBEB0A2778E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29FFEFF-F44C-4AB8-B6E0-CEB489BB2F4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A4AA7FF-97A8-4870-BCFB-BEB6807A48D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AF82DBD-1AEF-4486-A677-71F95F24F2D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31FB1A-B946-4D6C-ADA7-F87383B9D7C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5F3D751-0268-48D5-B293-54B8E3D59C4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2C83AEF-693C-481B-8545-C6D6C7EFB43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0BD79D-EB4E-40A4-83B7-E29F61916BD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FFC8C0-FDF3-492B-B78F-4245DBA9F33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A89D3C-EB44-4AD1-B987-8348D852BB9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9ED111E-3C51-439D-8D7A-EC4F52CA89A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453CD2C-47A9-4742-896C-7631298DAD2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615E234-EA3E-494E-A571-ACA588E6F29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9EA5B0C-6892-4A26-B7C9-39C04090671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DBB0A3-2F30-49DB-A5FF-02DBB79DA69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FCFCE82-1F00-4717-BED7-127C1AC1FAD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51A87B-BA11-47FC-ABFB-55C234D5BC2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70984D-1590-48AB-B507-3A9C3E24431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78249A4-5C72-4AA2-B187-82EDA6F0B8F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BC62F8-EFA0-4B9D-A37D-B6E2FE81E45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7469F80-BC1A-426F-81E2-0EAEA25CD03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DB94366-23C9-4A9E-9345-76DFDA91218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9545207-CE34-4D26-9531-D4F6033EBA87}"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96016F-FD53-49B4-987B-8ECAA7C82E2D}"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2F1D9D-1177-4A6B-8851-C8391AA30F9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0222220-6B2D-41F1-B215-6BE4DDE9666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DD12017-EF4D-4B42-B0B5-D8838A7CD9A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D66D496C-8AF9-4A2E-8DBB-93F08B4D405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4936AC-55E7-42B6-A4FC-9473827D2A02}"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CC01D1-F4E1-41CA-AD21-7CC9EB0FAE33}"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9C7499-25AF-4DA4-B305-7151404AD056}"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769FA0-48D3-4670-BE5C-7D427D4A1B43}"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461EA26-EF7A-4E86-A577-EC26E1D9912C}"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A8E438-64A2-424A-BEB4-14FB03055FF2}"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5D29D6-70D9-4AA4-9ABE-46AC78696B28}"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B4B038-F053-414E-81B8-E0FBD056B6BE}"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0DD3A5-3D38-4655-AFD3-3AA5F1D23E96}"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4CDEE93B-FCC4-4009-AF35-1E1142E7FB85}"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692EF8-3158-4A99-8B91-03B930BBB8BA}"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60DEF7C-479F-4290-BD0D-3CF92AD6C697}"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EE84FF-67F9-4FF3-9F7B-7FA4F47B9732}"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CDEAFD-A40B-4C13-A68E-0E74406BB1FF}"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A6B1B5C-567D-4B99-9E6E-0C1BFD4BE22F}"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075467-03D0-4A9C-A869-AC8358D50804}"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513456-352A-4FA9-8882-92A8D75565D6}"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FBB5CEC-C971-4ECF-95B5-9C17056D6F59}"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8307E6-2D6A-417B-AAA5-846A2169412D}"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00F2AA-2D0F-4218-819C-2CBA03A064F3}"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2443D129-7010-4CA6-82C7-E750177D72CA}"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5172240-B58D-4D51-93D1-757CCE3C79B6}"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D66254-2825-47BC-A621-EF8B633257FF}"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8FD0974-E9E0-42F8-8232-7EB766B0E837}"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005360D-C02E-41D4-B7CE-72A10CE817EF}"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0639D10-0734-48FF-AF68-5BA879FCABB0}"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B76EA5-B1F9-4C6F-A32C-004D4F909DC3}"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01DB87-F362-44C2-9C59-6B12B7004A5B}"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E6C24F1-FDBB-4FF8-B4B5-6EAE6E7E5BBB}"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F834E69-3AF7-4874-B5D0-53BEDE225A75}"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3B66F4-4BBA-4C66-98E8-5FA5775FEACB}"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8426F5-9CFA-4C79-AD23-C7F71974814A}"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17BD389-8A67-44A8-A6E1-8F4071C3AEF5}"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9CB7B6-5204-40FA-B8BA-FD609F451CC6}"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F02C41A-26F6-4AF5-8B74-AA0704183BFA}"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DD612F8-460C-4696-82E3-3940BA0A1253}"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5FD18A0-06C6-44EC-827B-2811550C0E26}"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53195DE-AB27-4313-AFE8-4A75F864CA84}"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9C0F78-49D6-4C66-B84A-40F1A0F0198A}"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4BD288A-5873-426C-8582-29712BE62D91}"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126F23-2566-4BA7-953D-09FDA4269474}"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09FEB6-4CBB-4218-8098-4C9AAE868C6D}"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12D12C-D206-467B-B61D-39F63FCA16AC}"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2709F6-17A2-4764-BFC5-7BBA7390360B}"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2B7AC2-8E29-4821-834D-CBC7BAF50732}"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071700-0305-46B2-81B8-E598E4166C6F}"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0864C77-3D9E-42B3-B9E7-5EEE52209BE2}"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6FE8B1-879A-418E-A9DD-C63982018C25}"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1A9BB4-BE5F-4016-B68D-222562B37992}"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9CD5E61-8310-4533-9D68-F33D2AD4D3B5}"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1EC12B-3517-4BCE-80A7-86D3E37B46D0}"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F02EC7A-9E40-45C5-A3E3-66C9DA46B713}"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B465F8-47E1-4F7F-8643-A3B4C5F39784}"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996ECDC-13C6-460A-A7BC-2E3BB5A3208A}"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3B977A-A1A6-4FB7-95DD-5B4B4D91A45A}"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2262C1-C0D6-42BC-9AF5-65333CFC7CB6}"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3AAF2C2-3E53-41C0-A79B-FDF5E0BAB874}"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D8D683-7CD9-4068-AF74-49C3CF686EE8}"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20404B-50D6-4719-97B6-7E6B32AA701E}"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68C825-69C6-413D-965E-31AC6C803B15}"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5BAA11-FA14-445C-A818-F4179D1B7C40}"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DA88A1A-C692-4058-8368-0A3FAC599772}"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431E434-6331-4944-86D8-FF0618D0B90E}"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0109FB-3AE2-4ABF-BE92-DF25939E1CCB}"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11A2C6-9AB9-48AA-8F6C-096535FCFD0D}"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7120AD1-B2B9-4F4E-BEC5-0AF2257B1F57}"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