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07586"/>
        <c:axId val="38003820"/>
      </c:barChart>
      <c:catAx>
        <c:axId val="63207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03820"/>
        <c:crosses val="autoZero"/>
        <c:auto val="1"/>
        <c:lblAlgn val="ctr"/>
        <c:lblOffset val="100"/>
        <c:noMultiLvlLbl val="0"/>
      </c:catAx>
      <c:valAx>
        <c:axId val="38003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07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C441-DFFE-4141-986D-3F2869E2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9FA4-A3FD-4154-89E2-DF82BF5A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0E6F-B5A4-4EDC-A319-46009BB0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0AB6-F5F3-4C64-B797-0685CEE4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5FE0-F29C-41A0-9075-16D8CD92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41D8-9F9A-451B-B704-027C9FD2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27C-1B4F-497D-9E32-BC624110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F51A-732D-4771-939E-A85186AC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47A-A363-47F7-AAF9-4A092104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5F9-7C4C-49FB-8E43-A35F153E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D35-9BA4-4B62-9E03-C2204723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7401-28CE-4CDC-8683-265D85A7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F3839-0DF1-4F4F-8EA5-D709991193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