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71797"/>
        <c:axId val="38385935"/>
      </c:barChart>
      <c:catAx>
        <c:axId val="76771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85935"/>
        <c:crosses val="autoZero"/>
        <c:auto val="1"/>
        <c:lblAlgn val="ctr"/>
        <c:lblOffset val="100"/>
        <c:noMultiLvlLbl val="0"/>
      </c:catAx>
      <c:valAx>
        <c:axId val="38385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71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5BF-1380-4E97-B4B5-A14A7E8C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7F1-E815-41A5-A661-0DE7BC77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7A8-1576-4760-8948-7343CB26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099-B121-45D2-BEAC-AC037D4B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93C-1C7A-4E51-9CB7-17BD0935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8A1-C5C6-4CBB-9FF0-3A8C54CC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5D9-FB0B-41A1-A6EA-5F916F7D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ED4-4949-45A4-9251-99E272AB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E6D-840E-44BD-9E72-42BE03EA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101-E46B-4A52-B691-A6DF7904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C43-C683-4CB8-A05E-7AFDC231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191-BB33-4671-A07A-C89BF05B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031E7-8B39-4B8D-9884-595DC0BA68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