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01188"/>
        <c:axId val="52077904"/>
      </c:barChart>
      <c:catAx>
        <c:axId val="50801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77904"/>
        <c:crosses val="autoZero"/>
        <c:auto val="1"/>
        <c:lblAlgn val="ctr"/>
        <c:lblOffset val="100"/>
        <c:noMultiLvlLbl val="0"/>
      </c:catAx>
      <c:valAx>
        <c:axId val="52077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1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186-2918-4C57-928E-39AADB2D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6FF-E8C2-4C25-A7BC-4A002DC6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FEF-059E-41A8-B8CC-7748B20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A93-212A-4801-AC50-B0C01BE3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161-5D36-4068-9007-F29C5B63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769-3B04-46F1-81FB-EFB725DA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B1D-B51F-49CB-8F5C-2AC1F1B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46F-C1D5-4C7F-9359-055BB0A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9AC-C81C-40B6-AD77-9F23B4FC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EAC-B9A5-446F-863D-9C0BBC8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99C-DF26-4C26-BCB5-BC0C66E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9B6-4A24-4A8B-8916-52B9E6F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1C739-4C39-40BA-A38A-C3512AFC4A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