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6769"/>
        <c:axId val="6355859"/>
      </c:barChart>
      <c:catAx>
        <c:axId val="386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5859"/>
        <c:crosses val="autoZero"/>
        <c:auto val="1"/>
        <c:lblAlgn val="ctr"/>
        <c:lblOffset val="100"/>
        <c:noMultiLvlLbl val="0"/>
      </c:catAx>
      <c:valAx>
        <c:axId val="6355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6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D2B-52E3-4295-944C-227E2F5D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D66-E92B-46BB-882F-1E869B74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CA9-87DC-4825-9ACA-EC5CF208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998-2E45-4047-989D-0EDC9D1C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BB2-2602-4342-8182-CFD825E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914-290B-4D72-83D2-2890802E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8A5-1B20-4A08-A8AF-F8975B88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8D9-F213-46B3-91D9-13CD3E97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C3E-4B7D-4F41-9163-8757B912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AEB-71AB-4F01-858C-A011E56A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50BC-2300-4561-9E34-993814B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D55E-89B3-4276-B7B0-BBA0932E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0C9E4-D2F9-4DB7-9E5F-670323A7CD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