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802172"/>
        <c:axId val="44033654"/>
      </c:barChart>
      <c:catAx>
        <c:axId val="648021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033654"/>
        <c:crosses val="autoZero"/>
        <c:auto val="1"/>
        <c:lblAlgn val="ctr"/>
        <c:lblOffset val="100"/>
        <c:noMultiLvlLbl val="0"/>
      </c:catAx>
      <c:valAx>
        <c:axId val="440336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8021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C413-E67A-4FA5-B8E8-4E5D9F5F8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5386-5A57-44FA-9451-1B8CED946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54C1-E6BF-476F-ABEA-08954541D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8EDC-9436-43C9-B2E9-24F651B3E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2877-971C-49BA-B0EE-51D6DAD2C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E0A0-9DD4-4C33-8CFB-66FED85FE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20CC-BB7F-4ACC-A1D7-CAC7048A3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E563-B69E-4627-88A0-707D07D9D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B92E-D171-409A-9362-8BF07F6E5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F1F5-D432-44A6-9EF0-5CE9058F5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6B31-7816-4FDF-94FB-4E293694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1E9F-C115-4A9C-8A24-C90AFEDC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C49325-D7DC-4CAB-8847-DFD2B5112C7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