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24248"/>
        <c:axId val="99550612"/>
      </c:barChart>
      <c:catAx>
        <c:axId val="47824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50612"/>
        <c:crosses val="autoZero"/>
        <c:auto val="1"/>
        <c:lblAlgn val="ctr"/>
        <c:lblOffset val="100"/>
        <c:noMultiLvlLbl val="0"/>
      </c:catAx>
      <c:valAx>
        <c:axId val="99550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24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E77-44B6-4425-9DA1-8833F53F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535-9EB1-4981-A923-FDE2253E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756-9C93-461E-B30D-88886D08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7EF-03CF-4B63-BD86-FE0A3AA6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57F-D3FB-44E8-BB63-14A5CB3D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AC4-D058-44DD-9D46-E5F13A6A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2AE-084A-443D-9E41-816A8793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8B3-3190-49A7-BC2A-E3385449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F78-A90F-48FD-8A9C-2EE7F7F4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B92-4990-4A53-A5FE-83818E5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654-6902-4201-9CFE-CB92B573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3BE-2182-4D0D-8FDD-C1B9A5C4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1A66C-08BD-4A48-BEDE-0EA9E684FF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