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98697"/>
        <c:axId val="30675118"/>
      </c:barChart>
      <c:catAx>
        <c:axId val="56598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75118"/>
        <c:crosses val="autoZero"/>
        <c:auto val="1"/>
        <c:lblAlgn val="ctr"/>
        <c:lblOffset val="100"/>
        <c:noMultiLvlLbl val="0"/>
      </c:catAx>
      <c:valAx>
        <c:axId val="30675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98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054-54B6-4174-AF0B-63C64E04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978-832E-416A-9197-F2D43113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B56-B3C0-460C-94F6-2CCFF102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581-36F8-4897-8093-332F0985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193-ECF0-4419-B262-A8A64A2B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35B-36EE-4B76-B59F-2280F86A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D5F-8BC7-4B6D-A25A-E9BBBD5B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E33-233E-4109-8C9F-B1EEE16D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F4C-1F2C-4F0D-9FC7-41D1EAD0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194-751F-41D8-A620-8C31A1EC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D5C3-E283-415D-AFB2-64ADF6E0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AD6-A256-4ED3-A820-19CAF899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7C47B-FE6B-4125-A0D6-9E88D46EB4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