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58448"/>
        <c:axId val="12033981"/>
      </c:barChart>
      <c:catAx>
        <c:axId val="43758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33981"/>
        <c:crosses val="autoZero"/>
        <c:auto val="1"/>
        <c:lblAlgn val="ctr"/>
        <c:lblOffset val="100"/>
        <c:noMultiLvlLbl val="0"/>
      </c:catAx>
      <c:valAx>
        <c:axId val="12033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8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573-2EB1-4BC9-9F2C-A4476E9C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546-3C9F-48CA-BCDF-64559110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CC5-418F-4163-BE43-09BD78D4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C1F-E475-4EBE-B36F-126C328E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8AB-1BD1-437D-A699-AB43F102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1F9-1A4B-430D-8B9A-C90BF03C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11E-5902-4F0D-8A51-58D6EB87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0F1-02D5-4BD1-B7B3-CF2C8960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66F-9F52-4236-8FAA-FE0C8BFD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59D-1A97-4AC9-86C2-155FFDC1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EDA-7B94-4A02-B57A-5E53CA23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BA4-AE37-4903-9DCD-7F7AE792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DEA80-3182-4CE2-A7D2-338AAFB14D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