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13029"/>
        <c:axId val="24555885"/>
      </c:barChart>
      <c:catAx>
        <c:axId val="81813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55885"/>
        <c:crosses val="autoZero"/>
        <c:auto val="1"/>
        <c:lblAlgn val="ctr"/>
        <c:lblOffset val="100"/>
        <c:noMultiLvlLbl val="0"/>
      </c:catAx>
      <c:valAx>
        <c:axId val="24555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13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F75-81EB-43BB-932C-DEE1C3B0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216-4B65-4D4B-8FD7-8F3089F8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1AD-7DAB-4732-9ADE-4B662CB0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1BB-A88E-4AD0-9716-C835A1DF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9ED-2924-47CA-908F-BA324E6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450-54AE-47C2-8EEC-46FD164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90F-9E03-4154-86F7-7E0F124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C07-5CF3-41DB-8588-AF3FED0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48E-62A1-4EB9-8FC8-9AF5D526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08F-D74C-4321-AC84-E06F535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CD2-ACC1-40DF-BD5F-1B60A29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92B-AE84-4102-BE4C-54B298D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2EBBE-6EB0-4056-A97E-9519AF108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