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17302"/>
        <c:axId val="12062381"/>
      </c:barChart>
      <c:catAx>
        <c:axId val="50217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2381"/>
        <c:crosses val="autoZero"/>
        <c:auto val="1"/>
        <c:lblAlgn val="ctr"/>
        <c:lblOffset val="100"/>
        <c:noMultiLvlLbl val="0"/>
      </c:catAx>
      <c:valAx>
        <c:axId val="12062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7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10F-D0FB-4040-BCBB-A699A55F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665-D7B4-4A34-AE62-8D15548F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ED1-2487-4B13-956E-C077A575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184-A448-4EBD-AD54-47D36D0C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B3D-95BF-4E5F-8BE0-E5B410A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76E-9B9A-41F4-B7DD-DA8F26D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792-433F-4674-AE65-83609BF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D7C-E5EC-4D86-B6A7-CCB3737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A0C-B7EC-4CB5-BA1C-AA5E688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B46-AED1-416E-B1DF-9A60205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3D4-6B34-47BC-94DD-09E6BE8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26D-BDBC-4ADF-ACA7-1D55BD5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C777C-9790-4A40-8B4A-3CCADAD8C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