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0EDA9-804E-44AC-8A76-FC129BD10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04880" y="401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F99FF-A172-4C91-8086-5F25436D1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7560" y="186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04880" y="401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7560" y="401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11085-CC06-40B7-99DA-E8AE33B45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32880" y="186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0520" y="186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04880" y="401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32880" y="401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0520" y="401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78A73-CA5F-45EC-B8AC-24901E19B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B19EC-3353-4F83-922E-CE35ED7B8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8BE44-D784-4B92-8CD8-B1CB1437E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7560" y="18669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D024D-BF97-45CA-9D99-C60E1EB07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51EAE-28CB-49C2-B8DE-04266EDF2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86AA3-D32B-45C0-A2AF-B1D829790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7560" y="18669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04880" y="401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93C41-2694-406B-A15D-C322BF39F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7560" y="186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7560" y="401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B6553-C3E7-49D1-B1A6-1376BA6DC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7560" y="186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04880" y="401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CDFFF-6516-4AAB-8CAF-40342A8F7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1E8BC-F5BD-4E5A-8053-B1671DF1194D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7C913-B56D-4E7F-8E96-2E34AFBA04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warmfest ‘98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utor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ssion I: 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nedikt Stefans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benedikt@ucla.edu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e event simu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301760" y="2771640"/>
            <a:ext cx="990720" cy="2514600"/>
          </a:xfrm>
          <a:custGeom>
            <a:avLst/>
            <a:gdLst>
              <a:gd name="textAreaLeft" fmla="*/ 132480 w 990720"/>
              <a:gd name="textAreaRight" fmla="*/ 858240 w 990720"/>
              <a:gd name="textAreaTop" fmla="*/ 439920 h 2514600"/>
              <a:gd name="textAreaBottom" fmla="*/ 1823040 h 2514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rot="10899600">
            <a:off x="4077720" y="2585160"/>
            <a:ext cx="990360" cy="2590920"/>
          </a:xfrm>
          <a:custGeom>
            <a:avLst/>
            <a:gdLst>
              <a:gd name="textAreaLeft" fmla="*/ 132480 w 990360"/>
              <a:gd name="textAreaRight" fmla="*/ 857880 w 990360"/>
              <a:gd name="textAreaTop" fmla="*/ 453240 h 2590920"/>
              <a:gd name="textAreaBottom" fmla="*/ 1878480 h 2590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1905120"/>
            <a:ext cx="1600200" cy="160020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68360" y="4062240"/>
            <a:ext cx="1600200" cy="160020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544840" y="2421000"/>
            <a:ext cx="247680" cy="627120"/>
          </a:xfrm>
          <a:custGeom>
            <a:avLst/>
            <a:gdLst>
              <a:gd name="textAreaLeft" fmla="*/ 33120 w 247680"/>
              <a:gd name="textAreaRight" fmla="*/ 214560 w 247680"/>
              <a:gd name="textAreaTop" fmla="*/ 109800 h 627120"/>
              <a:gd name="textAreaBottom" fmla="*/ 454680 h 6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rot="10899600">
            <a:off x="3433680" y="2362320"/>
            <a:ext cx="247680" cy="645840"/>
          </a:xfrm>
          <a:custGeom>
            <a:avLst/>
            <a:gdLst>
              <a:gd name="textAreaLeft" fmla="*/ 33120 w 247680"/>
              <a:gd name="textAreaRight" fmla="*/ 214560 w 247680"/>
              <a:gd name="textAreaTop" fmla="*/ 113040 h 645840"/>
              <a:gd name="textAreaBottom" fmla="*/ 468360 h 645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825640" y="2057400"/>
            <a:ext cx="398520" cy="3999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789280" y="2666880"/>
            <a:ext cx="398520" cy="40032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438280" y="4559400"/>
            <a:ext cx="247680" cy="627120"/>
          </a:xfrm>
          <a:custGeom>
            <a:avLst/>
            <a:gdLst>
              <a:gd name="textAreaLeft" fmla="*/ 33120 w 247680"/>
              <a:gd name="textAreaRight" fmla="*/ 214560 w 247680"/>
              <a:gd name="textAreaTop" fmla="*/ 109800 h 627120"/>
              <a:gd name="textAreaBottom" fmla="*/ 454680 h 6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rot="10899600">
            <a:off x="3294000" y="4501800"/>
            <a:ext cx="247680" cy="646200"/>
          </a:xfrm>
          <a:custGeom>
            <a:avLst/>
            <a:gdLst>
              <a:gd name="textAreaLeft" fmla="*/ 33120 w 247680"/>
              <a:gd name="textAreaRight" fmla="*/ 214560 w 247680"/>
              <a:gd name="textAreaTop" fmla="*/ 113040 h 646200"/>
              <a:gd name="textAreaBottom" fmla="*/ 468720 h 646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735280" y="4214880"/>
            <a:ext cx="398520" cy="3999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735280" y="4824360"/>
            <a:ext cx="398520" cy="3999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276880" y="1866960"/>
            <a:ext cx="3200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ulation proceeds in discrete time ste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action between agents or procedures within simulation may have own event schedu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8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69386-C5A3-49C6-8C49-995198BF5BE4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BC6C22-B744-4AAD-B689-9152FE0234A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ulation in procedural langu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t parameters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e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mestep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um_ag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ent-i-do-somet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w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562720" y="3362400"/>
            <a:ext cx="2819160" cy="1557000"/>
          </a:xfrm>
          <a:prstGeom prst="borderCallout1">
            <a:avLst>
              <a:gd name="adj1" fmla="val 18750"/>
              <a:gd name="adj2" fmla="val -8333"/>
              <a:gd name="adj3" fmla="val 30972"/>
              <a:gd name="adj4" fmla="val -1710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e must provide data structure to save agent’s state and implement behav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2084400"/>
            <a:ext cx="4419720" cy="825480"/>
          </a:xfrm>
          <a:prstGeom prst="borderCallout1">
            <a:avLst>
              <a:gd name="adj1" fmla="val 18750"/>
              <a:gd name="adj2" fmla="val -8333"/>
              <a:gd name="adj3" fmla="val 61504"/>
              <a:gd name="adj4" fmla="val -44282"/>
            </a:avLst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lly set’s up data structures and support for 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9880" y="5105520"/>
            <a:ext cx="4445280" cy="825480"/>
          </a:xfrm>
          <a:prstGeom prst="borderCallout1">
            <a:avLst>
              <a:gd name="adj1" fmla="val 18750"/>
              <a:gd name="adj2" fmla="val -8333"/>
              <a:gd name="adj3" fmla="val -21444"/>
              <a:gd name="adj4" fmla="val -14282"/>
            </a:avLst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ementation of output often left to the program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8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EB99C-2172-4942-B13D-BA43938F2006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E6034B-137B-4F06-87B9-7B5039439E4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1500120" y="2822400"/>
            <a:ext cx="6597720" cy="3264120"/>
          </a:xfrm>
          <a:prstGeom prst="ellipse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(Swarm) OOP w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093760" y="3618000"/>
            <a:ext cx="935280" cy="93492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919080" y="2521080"/>
            <a:ext cx="1322640" cy="132228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657760" y="2990880"/>
            <a:ext cx="935280" cy="93492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927520" y="3794040"/>
            <a:ext cx="1180800" cy="265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016520" y="3200400"/>
            <a:ext cx="934920" cy="93492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rot="2218800">
            <a:off x="2655360" y="4475160"/>
            <a:ext cx="1181160" cy="264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556080" y="4549680"/>
            <a:ext cx="934920" cy="93528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rot="17536200">
            <a:off x="5159880" y="4229640"/>
            <a:ext cx="1180800" cy="264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921200" y="4900680"/>
            <a:ext cx="934920" cy="93492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156360" y="4498920"/>
            <a:ext cx="619200" cy="706320"/>
          </a:xfrm>
          <a:prstGeom prst="rect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750000" y="3592440"/>
            <a:ext cx="619200" cy="706680"/>
          </a:xfrm>
          <a:prstGeom prst="rect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8" name=""/>
          <p:cNvCxnSpPr/>
          <p:nvPr/>
        </p:nvCxnSpPr>
        <p:spPr>
          <a:xfrm>
            <a:off x="2313000" y="3076200"/>
            <a:ext cx="1775520" cy="486360"/>
          </a:xfrm>
          <a:prstGeom prst="curvedConnector5">
            <a:avLst>
              <a:gd name="adj1" fmla="val 49989"/>
              <a:gd name="adj2" fmla="val 50000"/>
              <a:gd name="adj3" fmla="val 49989"/>
            </a:avLst>
          </a:prstGeom>
          <a:ln w="76320">
            <a:solidFill>
              <a:srgbClr val="00cc99"/>
            </a:solidFill>
            <a:miter/>
            <a:tailEnd len="med" type="triangle" w="med"/>
          </a:ln>
        </p:spPr>
      </p:cxnSp>
      <p:sp>
        <p:nvSpPr>
          <p:cNvPr id="169" name=""/>
          <p:cNvSpPr/>
          <p:nvPr/>
        </p:nvSpPr>
        <p:spPr>
          <a:xfrm>
            <a:off x="652320" y="4686480"/>
            <a:ext cx="4530960" cy="1191240"/>
          </a:xfrm>
          <a:prstGeom prst="borderCallout1">
            <a:avLst>
              <a:gd name="adj1" fmla="val 18750"/>
              <a:gd name="adj2" fmla="val -8333"/>
              <a:gd name="adj3" fmla="val -116250"/>
              <a:gd name="adj4" fmla="val 12305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agent saves his own behavior and state and acts when called upon by scheduler or other ag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106720" y="1854360"/>
            <a:ext cx="6243480" cy="825480"/>
          </a:xfrm>
          <a:prstGeom prst="borderCallout1">
            <a:avLst>
              <a:gd name="adj1" fmla="val 18750"/>
              <a:gd name="adj2" fmla="val -8333"/>
              <a:gd name="adj3" fmla="val 123625"/>
              <a:gd name="adj4" fmla="val -6879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event loop is now embedded in an object that sends messages to agents and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rot="4062000">
            <a:off x="1023480" y="2897280"/>
            <a:ext cx="730440" cy="129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rot="9147600">
            <a:off x="1387080" y="2989080"/>
            <a:ext cx="728640" cy="918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8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1E909-E965-4238-B75E-A07EC10CA208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8F39AE-816D-4036-9758-5C7C6D3BE50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Swa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Swarm is an object that impl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mory allo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agement of scheduling mechan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basic Swarm simulation consists of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 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589640" y="4529160"/>
            <a:ext cx="3809880" cy="1295280"/>
          </a:xfrm>
          <a:prstGeom prst="ellipse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869000" y="4929120"/>
            <a:ext cx="520560" cy="520920"/>
          </a:xfrm>
          <a:prstGeom prst="ellipse">
            <a:avLst/>
          </a:pr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168880" y="4718160"/>
            <a:ext cx="520560" cy="520560"/>
          </a:xfrm>
          <a:prstGeom prst="ellipse">
            <a:avLst/>
          </a:pr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335560" y="5065560"/>
            <a:ext cx="520560" cy="520920"/>
          </a:xfrm>
          <a:prstGeom prst="ellipse">
            <a:avLst/>
          </a:pr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638680" y="4716360"/>
            <a:ext cx="520920" cy="520920"/>
          </a:xfrm>
          <a:prstGeom prst="ellipse">
            <a:avLst/>
          </a:pr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889600" y="5003640"/>
            <a:ext cx="520560" cy="520920"/>
          </a:xfrm>
          <a:prstGeom prst="ellipse">
            <a:avLst/>
          </a:pr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521400" y="4859280"/>
            <a:ext cx="689040" cy="655560"/>
          </a:xfrm>
          <a:prstGeom prst="rect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738840" y="4694400"/>
            <a:ext cx="689040" cy="655560"/>
          </a:xfrm>
          <a:prstGeom prst="rect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655520" y="4233960"/>
            <a:ext cx="1049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989320" y="5821200"/>
            <a:ext cx="2349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nimate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667400" y="2608200"/>
            <a:ext cx="3809880" cy="1295640"/>
          </a:xfrm>
          <a:prstGeom prst="ellipse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6638760" y="2789280"/>
            <a:ext cx="622440" cy="888840"/>
            <a:chOff x="6638760" y="2789280"/>
            <a:chExt cx="622440" cy="888840"/>
          </a:xfrm>
        </p:grpSpPr>
        <p:sp>
          <p:nvSpPr>
            <p:cNvPr id="187" name=""/>
            <p:cNvSpPr/>
            <p:nvPr/>
          </p:nvSpPr>
          <p:spPr>
            <a:xfrm>
              <a:off x="6638760" y="2789280"/>
              <a:ext cx="622440" cy="88884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688080" y="2889000"/>
              <a:ext cx="523800" cy="13824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688080" y="3290760"/>
              <a:ext cx="523800" cy="13644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88080" y="3089160"/>
              <a:ext cx="523800" cy="13824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688080" y="3490920"/>
              <a:ext cx="523800" cy="13644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2" name=""/>
          <p:cNvSpPr/>
          <p:nvPr/>
        </p:nvSpPr>
        <p:spPr>
          <a:xfrm>
            <a:off x="5295960" y="2911320"/>
            <a:ext cx="901800" cy="74952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03960" y="3030480"/>
            <a:ext cx="660240" cy="546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448240" y="2746440"/>
            <a:ext cx="901800" cy="74916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556240" y="2865600"/>
            <a:ext cx="660240" cy="5457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869720" y="2206800"/>
            <a:ext cx="12031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dg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394040" y="2130480"/>
            <a:ext cx="1015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91400" y="2889360"/>
            <a:ext cx="622080" cy="88884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840360" y="2989440"/>
            <a:ext cx="524160" cy="1378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840360" y="3390840"/>
            <a:ext cx="524160" cy="13644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40360" y="3189240"/>
            <a:ext cx="524160" cy="13824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840360" y="3591000"/>
            <a:ext cx="524160" cy="13644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264360" y="2011320"/>
            <a:ext cx="352440" cy="352440"/>
          </a:xfrm>
          <a:prstGeom prst="ellipse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4" name=""/>
          <p:cNvCxnSpPr>
            <a:stCxn id="203" idx="4"/>
            <a:endCxn id="185" idx="0"/>
          </p:cNvCxnSpPr>
          <p:nvPr/>
        </p:nvCxnSpPr>
        <p:spPr>
          <a:xfrm flipH="1" rot="16200000">
            <a:off x="6384240" y="2419200"/>
            <a:ext cx="244800" cy="132480"/>
          </a:xfrm>
          <a:prstGeom prst="bentConnector3">
            <a:avLst>
              <a:gd name="adj1" fmla="val 49926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5" name=""/>
          <p:cNvCxnSpPr>
            <a:stCxn id="185" idx="4"/>
            <a:endCxn id="175" idx="0"/>
          </p:cNvCxnSpPr>
          <p:nvPr/>
        </p:nvCxnSpPr>
        <p:spPr>
          <a:xfrm rot="5400000">
            <a:off x="6220080" y="4177440"/>
            <a:ext cx="626040" cy="784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6" name=""/>
          <p:cNvCxnSpPr>
            <a:stCxn id="183" idx="1"/>
            <a:endCxn id="176" idx="3"/>
          </p:cNvCxnSpPr>
          <p:nvPr/>
        </p:nvCxnSpPr>
        <p:spPr>
          <a:xfrm flipH="1" flipV="1" rot="10800000">
            <a:off x="4655880" y="4461480"/>
            <a:ext cx="289440" cy="911880"/>
          </a:xfrm>
          <a:prstGeom prst="curvedConnector5">
            <a:avLst>
              <a:gd name="adj1" fmla="val -79078"/>
              <a:gd name="adj2" fmla="val 66706"/>
              <a:gd name="adj3" fmla="val -79078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7" name=""/>
          <p:cNvCxnSpPr>
            <a:stCxn id="184" idx="3"/>
            <a:endCxn id="182" idx="3"/>
          </p:cNvCxnSpPr>
          <p:nvPr/>
        </p:nvCxnSpPr>
        <p:spPr>
          <a:xfrm flipH="1" flipV="1">
            <a:off x="7427520" y="5022000"/>
            <a:ext cx="905760" cy="1027800"/>
          </a:xfrm>
          <a:prstGeom prst="curvedConnector5">
            <a:avLst>
              <a:gd name="adj1" fmla="val -25248"/>
              <a:gd name="adj2" fmla="val 50000"/>
              <a:gd name="adj3" fmla="val -25248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8" name=""/>
          <p:cNvCxnSpPr>
            <a:stCxn id="196" idx="1"/>
            <a:endCxn id="192" idx="1"/>
          </p:cNvCxnSpPr>
          <p:nvPr/>
        </p:nvCxnSpPr>
        <p:spPr>
          <a:xfrm flipH="1" flipV="1" rot="10800000">
            <a:off x="4871520" y="2434320"/>
            <a:ext cx="424800" cy="851400"/>
          </a:xfrm>
          <a:prstGeom prst="curvedConnector5">
            <a:avLst>
              <a:gd name="adj1" fmla="val -53859"/>
              <a:gd name="adj2" fmla="val 50000"/>
              <a:gd name="adj3" fmla="val -53859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9" name=""/>
          <p:cNvCxnSpPr>
            <a:stCxn id="197" idx="3"/>
            <a:endCxn id="198" idx="3"/>
          </p:cNvCxnSpPr>
          <p:nvPr/>
        </p:nvCxnSpPr>
        <p:spPr>
          <a:xfrm flipH="1">
            <a:off x="7412760" y="2358720"/>
            <a:ext cx="996120" cy="975240"/>
          </a:xfrm>
          <a:prstGeom prst="curvedConnector5">
            <a:avLst>
              <a:gd name="adj1" fmla="val -22957"/>
              <a:gd name="adj2" fmla="val 50000"/>
              <a:gd name="adj3" fmla="val -22957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210" name=""/>
          <p:cNvSpPr/>
          <p:nvPr/>
        </p:nvSpPr>
        <p:spPr>
          <a:xfrm>
            <a:off x="7086240" y="3733920"/>
            <a:ext cx="129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12560" y="5616720"/>
            <a:ext cx="97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8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B11B5-F602-46B0-8857-8FFF6C27AC2E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B6261C-2987-403E-BB26-671B681125B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877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recursive structure of Swa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792520" y="1922400"/>
            <a:ext cx="3660840" cy="17035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116160" y="2568600"/>
            <a:ext cx="650880" cy="650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432240" y="2562120"/>
            <a:ext cx="307800" cy="34128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017960" y="2347920"/>
            <a:ext cx="208080" cy="2080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95760" y="2654280"/>
            <a:ext cx="208080" cy="2080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019840" y="2417760"/>
            <a:ext cx="207720" cy="2080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321080" y="3065400"/>
            <a:ext cx="208080" cy="2080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186520" y="2897280"/>
            <a:ext cx="207720" cy="20772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2320" y="4013280"/>
            <a:ext cx="2502000" cy="112716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044800" y="4421160"/>
            <a:ext cx="441360" cy="441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102120" y="4818240"/>
            <a:ext cx="139680" cy="1346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075120" y="4071960"/>
            <a:ext cx="13788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346560" y="4317840"/>
            <a:ext cx="13968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071880" y="4357800"/>
            <a:ext cx="137880" cy="13320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460680" y="4645080"/>
            <a:ext cx="138240" cy="1378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205240" y="4573440"/>
            <a:ext cx="2502000" cy="11620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427720" y="5016600"/>
            <a:ext cx="441360" cy="441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043680" y="4863960"/>
            <a:ext cx="139680" cy="1396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303960" y="4700520"/>
            <a:ext cx="13824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104240" y="4896000"/>
            <a:ext cx="139680" cy="1378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251400" y="5356080"/>
            <a:ext cx="13824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792840" y="5070600"/>
            <a:ext cx="138240" cy="1378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H="1">
            <a:off x="2157480" y="3157560"/>
            <a:ext cx="2176560" cy="1003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317840" y="3157560"/>
            <a:ext cx="16200" cy="1428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3535200" y="4551120"/>
            <a:ext cx="2891160" cy="153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586320" y="4721400"/>
            <a:ext cx="2006280" cy="850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170760" y="2392200"/>
            <a:ext cx="936360" cy="290520"/>
          </a:xfrm>
          <a:custGeom>
            <a:avLst/>
            <a:gdLst/>
            <a:ahLst/>
            <a:rect l="l" t="t" r="r" b="b"/>
            <a:pathLst>
              <a:path w="590" h="183">
                <a:moveTo>
                  <a:pt x="0" y="150"/>
                </a:moveTo>
                <a:lnTo>
                  <a:pt x="43" y="86"/>
                </a:lnTo>
                <a:lnTo>
                  <a:pt x="107" y="32"/>
                </a:lnTo>
                <a:lnTo>
                  <a:pt x="172" y="0"/>
                </a:lnTo>
                <a:lnTo>
                  <a:pt x="204" y="0"/>
                </a:lnTo>
                <a:lnTo>
                  <a:pt x="289" y="43"/>
                </a:lnTo>
                <a:lnTo>
                  <a:pt x="354" y="96"/>
                </a:lnTo>
                <a:lnTo>
                  <a:pt x="397" y="150"/>
                </a:lnTo>
                <a:lnTo>
                  <a:pt x="418" y="182"/>
                </a:lnTo>
                <a:lnTo>
                  <a:pt x="472" y="139"/>
                </a:lnTo>
                <a:lnTo>
                  <a:pt x="514" y="96"/>
                </a:lnTo>
                <a:lnTo>
                  <a:pt x="547" y="64"/>
                </a:lnTo>
                <a:lnTo>
                  <a:pt x="589" y="43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098840" y="2224080"/>
            <a:ext cx="1049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718880" y="3909960"/>
            <a:ext cx="1625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-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337000" y="3038400"/>
            <a:ext cx="614520" cy="733680"/>
          </a:xfrm>
          <a:custGeom>
            <a:avLst/>
            <a:gdLst/>
            <a:ahLst/>
            <a:rect l="l" t="t" r="r" b="b"/>
            <a:pathLst>
              <a:path w="387" h="462">
                <a:moveTo>
                  <a:pt x="0" y="0"/>
                </a:moveTo>
                <a:lnTo>
                  <a:pt x="54" y="0"/>
                </a:lnTo>
                <a:lnTo>
                  <a:pt x="97" y="21"/>
                </a:lnTo>
                <a:lnTo>
                  <a:pt x="129" y="53"/>
                </a:lnTo>
                <a:lnTo>
                  <a:pt x="161" y="118"/>
                </a:lnTo>
                <a:lnTo>
                  <a:pt x="161" y="236"/>
                </a:lnTo>
                <a:lnTo>
                  <a:pt x="150" y="353"/>
                </a:lnTo>
                <a:lnTo>
                  <a:pt x="140" y="418"/>
                </a:lnTo>
                <a:lnTo>
                  <a:pt x="161" y="450"/>
                </a:lnTo>
                <a:lnTo>
                  <a:pt x="215" y="461"/>
                </a:lnTo>
                <a:lnTo>
                  <a:pt x="279" y="461"/>
                </a:lnTo>
                <a:lnTo>
                  <a:pt x="322" y="461"/>
                </a:lnTo>
                <a:lnTo>
                  <a:pt x="354" y="461"/>
                </a:lnTo>
                <a:lnTo>
                  <a:pt x="386" y="439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925240" y="3516480"/>
            <a:ext cx="930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351320" y="3191040"/>
            <a:ext cx="426960" cy="817560"/>
          </a:xfrm>
          <a:custGeom>
            <a:avLst/>
            <a:gdLst/>
            <a:ahLst/>
            <a:rect l="l" t="t" r="r" b="b"/>
            <a:pathLst>
              <a:path w="269" h="515">
                <a:moveTo>
                  <a:pt x="0" y="0"/>
                </a:moveTo>
                <a:lnTo>
                  <a:pt x="86" y="75"/>
                </a:lnTo>
                <a:lnTo>
                  <a:pt x="129" y="118"/>
                </a:lnTo>
                <a:lnTo>
                  <a:pt x="139" y="161"/>
                </a:lnTo>
                <a:lnTo>
                  <a:pt x="129" y="247"/>
                </a:lnTo>
                <a:lnTo>
                  <a:pt x="96" y="343"/>
                </a:lnTo>
                <a:lnTo>
                  <a:pt x="75" y="407"/>
                </a:lnTo>
                <a:lnTo>
                  <a:pt x="75" y="450"/>
                </a:lnTo>
                <a:lnTo>
                  <a:pt x="86" y="482"/>
                </a:lnTo>
                <a:lnTo>
                  <a:pt x="171" y="504"/>
                </a:lnTo>
                <a:lnTo>
                  <a:pt x="204" y="514"/>
                </a:lnTo>
                <a:lnTo>
                  <a:pt x="246" y="514"/>
                </a:lnTo>
                <a:lnTo>
                  <a:pt x="268" y="51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513160" y="1523880"/>
            <a:ext cx="1303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819520" y="1905120"/>
            <a:ext cx="393480" cy="879480"/>
          </a:xfrm>
          <a:custGeom>
            <a:avLst/>
            <a:gdLst/>
            <a:ahLst/>
            <a:rect l="l" t="t" r="r" b="b"/>
            <a:pathLst>
              <a:path w="419" h="408">
                <a:moveTo>
                  <a:pt x="418" y="407"/>
                </a:moveTo>
                <a:lnTo>
                  <a:pt x="407" y="343"/>
                </a:lnTo>
                <a:lnTo>
                  <a:pt x="397" y="311"/>
                </a:lnTo>
                <a:lnTo>
                  <a:pt x="386" y="289"/>
                </a:lnTo>
                <a:lnTo>
                  <a:pt x="365" y="257"/>
                </a:lnTo>
                <a:lnTo>
                  <a:pt x="322" y="225"/>
                </a:lnTo>
                <a:lnTo>
                  <a:pt x="279" y="214"/>
                </a:lnTo>
                <a:lnTo>
                  <a:pt x="236" y="204"/>
                </a:lnTo>
                <a:lnTo>
                  <a:pt x="193" y="204"/>
                </a:lnTo>
                <a:lnTo>
                  <a:pt x="150" y="204"/>
                </a:lnTo>
                <a:lnTo>
                  <a:pt x="108" y="204"/>
                </a:lnTo>
                <a:lnTo>
                  <a:pt x="86" y="204"/>
                </a:lnTo>
                <a:lnTo>
                  <a:pt x="54" y="182"/>
                </a:lnTo>
                <a:lnTo>
                  <a:pt x="22" y="140"/>
                </a:lnTo>
                <a:lnTo>
                  <a:pt x="11" y="118"/>
                </a:lnTo>
                <a:lnTo>
                  <a:pt x="11" y="86"/>
                </a:lnTo>
                <a:lnTo>
                  <a:pt x="11" y="43"/>
                </a:lnTo>
                <a:lnTo>
                  <a:pt x="11" y="11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057400" y="4419720"/>
            <a:ext cx="324000" cy="222120"/>
          </a:xfrm>
          <a:custGeom>
            <a:avLst/>
            <a:gdLst/>
            <a:ahLst/>
            <a:rect l="l" t="t" r="r" b="b"/>
            <a:pathLst>
              <a:path w="204" h="140">
                <a:moveTo>
                  <a:pt x="0" y="86"/>
                </a:moveTo>
                <a:lnTo>
                  <a:pt x="150" y="139"/>
                </a:lnTo>
                <a:lnTo>
                  <a:pt x="203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423040" y="5181480"/>
            <a:ext cx="291960" cy="255600"/>
          </a:xfrm>
          <a:custGeom>
            <a:avLst/>
            <a:gdLst/>
            <a:ahLst/>
            <a:rect l="l" t="t" r="r" b="b"/>
            <a:pathLst>
              <a:path w="151" h="130">
                <a:moveTo>
                  <a:pt x="0" y="0"/>
                </a:moveTo>
                <a:lnTo>
                  <a:pt x="150" y="11"/>
                </a:lnTo>
                <a:lnTo>
                  <a:pt x="75" y="129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03320" y="2617920"/>
            <a:ext cx="1401840" cy="7189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174680" y="2838600"/>
            <a:ext cx="243000" cy="279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168560" y="2849400"/>
            <a:ext cx="182520" cy="142920"/>
          </a:xfrm>
          <a:custGeom>
            <a:avLst/>
            <a:gdLst/>
            <a:ahLst/>
            <a:rect l="l" t="t" r="r" b="b"/>
            <a:pathLst>
              <a:path w="115" h="90">
                <a:moveTo>
                  <a:pt x="0" y="55"/>
                </a:moveTo>
                <a:lnTo>
                  <a:pt x="84" y="89"/>
                </a:lnTo>
                <a:lnTo>
                  <a:pt x="114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50880" y="2873520"/>
            <a:ext cx="208080" cy="344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873080" y="2770200"/>
            <a:ext cx="208080" cy="344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060560" y="3382920"/>
            <a:ext cx="1955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Interf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669640" y="1646280"/>
            <a:ext cx="1599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517920" y="4295880"/>
            <a:ext cx="1344600" cy="376200"/>
          </a:xfrm>
          <a:custGeom>
            <a:avLst/>
            <a:gdLst/>
            <a:ahLst/>
            <a:rect l="l" t="t" r="r" b="b"/>
            <a:pathLst>
              <a:path w="847" h="237">
                <a:moveTo>
                  <a:pt x="0" y="236"/>
                </a:moveTo>
                <a:lnTo>
                  <a:pt x="11" y="182"/>
                </a:lnTo>
                <a:lnTo>
                  <a:pt x="43" y="129"/>
                </a:lnTo>
                <a:lnTo>
                  <a:pt x="86" y="97"/>
                </a:lnTo>
                <a:lnTo>
                  <a:pt x="128" y="86"/>
                </a:lnTo>
                <a:lnTo>
                  <a:pt x="150" y="97"/>
                </a:lnTo>
                <a:lnTo>
                  <a:pt x="182" y="118"/>
                </a:lnTo>
                <a:lnTo>
                  <a:pt x="214" y="129"/>
                </a:lnTo>
                <a:lnTo>
                  <a:pt x="246" y="161"/>
                </a:lnTo>
                <a:lnTo>
                  <a:pt x="268" y="172"/>
                </a:lnTo>
                <a:lnTo>
                  <a:pt x="300" y="172"/>
                </a:lnTo>
                <a:lnTo>
                  <a:pt x="353" y="182"/>
                </a:lnTo>
                <a:lnTo>
                  <a:pt x="396" y="193"/>
                </a:lnTo>
                <a:lnTo>
                  <a:pt x="450" y="193"/>
                </a:lnTo>
                <a:lnTo>
                  <a:pt x="514" y="182"/>
                </a:lnTo>
                <a:lnTo>
                  <a:pt x="557" y="182"/>
                </a:lnTo>
                <a:lnTo>
                  <a:pt x="600" y="172"/>
                </a:lnTo>
                <a:lnTo>
                  <a:pt x="632" y="161"/>
                </a:lnTo>
                <a:lnTo>
                  <a:pt x="675" y="139"/>
                </a:lnTo>
                <a:lnTo>
                  <a:pt x="707" y="118"/>
                </a:lnTo>
                <a:lnTo>
                  <a:pt x="750" y="97"/>
                </a:lnTo>
                <a:lnTo>
                  <a:pt x="782" y="65"/>
                </a:lnTo>
                <a:lnTo>
                  <a:pt x="825" y="32"/>
                </a:lnTo>
                <a:lnTo>
                  <a:pt x="846" y="0"/>
                </a:lnTo>
                <a:lnTo>
                  <a:pt x="814" y="2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837720" y="1981080"/>
            <a:ext cx="1015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8" name=""/>
          <p:cNvCxnSpPr>
            <a:stCxn id="257" idx="2"/>
            <a:endCxn id="252" idx="0"/>
          </p:cNvCxnSpPr>
          <p:nvPr/>
        </p:nvCxnSpPr>
        <p:spPr>
          <a:xfrm flipH="1" rot="16200000">
            <a:off x="1283040" y="2500560"/>
            <a:ext cx="435960" cy="310320"/>
          </a:xfrm>
          <a:prstGeom prst="curvedConnector5">
            <a:avLst>
              <a:gd name="adj1" fmla="val 50000"/>
              <a:gd name="adj2" fmla="val 49941"/>
              <a:gd name="adj3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9" name=""/>
          <p:cNvCxnSpPr/>
          <p:nvPr/>
        </p:nvCxnSpPr>
        <p:spPr>
          <a:xfrm flipH="1" rot="16200000">
            <a:off x="1613880" y="2424600"/>
            <a:ext cx="435600" cy="310320"/>
          </a:xfrm>
          <a:prstGeom prst="curvedConnector5">
            <a:avLst>
              <a:gd name="adj1" fmla="val 49958"/>
              <a:gd name="adj2" fmla="val 49941"/>
              <a:gd name="adj3" fmla="val 49958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260" name=""/>
          <p:cNvSpPr/>
          <p:nvPr/>
        </p:nvSpPr>
        <p:spPr>
          <a:xfrm>
            <a:off x="6552360" y="4168800"/>
            <a:ext cx="2151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-sub-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8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30E63-A663-4413-9744-2524559E2CF1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A882A4-8007-4972-A6A4-64C456F4A8B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Swarm as a virtual comput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537240" y="2155680"/>
            <a:ext cx="1567080" cy="115416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840200" y="4437000"/>
            <a:ext cx="3251160" cy="771480"/>
          </a:xfrm>
          <a:prstGeom prst="rect">
            <a:avLst/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840200" y="3481560"/>
            <a:ext cx="3251160" cy="77148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836960" y="2155680"/>
            <a:ext cx="1568520" cy="115416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068080" y="4632480"/>
            <a:ext cx="2793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rating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81280" y="3689280"/>
            <a:ext cx="2167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warm ker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333040" y="2857680"/>
            <a:ext cx="727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74560" y="2827440"/>
            <a:ext cx="1065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737240" y="2071800"/>
            <a:ext cx="3481200" cy="2243160"/>
          </a:xfrm>
          <a:prstGeom prst="rect">
            <a:avLst/>
          </a:prstGeom>
          <a:noFill/>
          <a:ln w="507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310440" y="2571840"/>
            <a:ext cx="409320" cy="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348240" y="2906640"/>
            <a:ext cx="43344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010120" y="2222640"/>
            <a:ext cx="917640" cy="652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116680" y="2274840"/>
            <a:ext cx="704520" cy="53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186520" y="2398680"/>
            <a:ext cx="599760" cy="335160"/>
          </a:xfrm>
          <a:custGeom>
            <a:avLst/>
            <a:gdLst/>
            <a:ahLst/>
            <a:rect l="l" t="t" r="r" b="b"/>
            <a:pathLst>
              <a:path w="378" h="211">
                <a:moveTo>
                  <a:pt x="0" y="211"/>
                </a:moveTo>
                <a:cubicBezTo>
                  <a:pt x="22" y="179"/>
                  <a:pt x="28" y="149"/>
                  <a:pt x="56" y="122"/>
                </a:cubicBezTo>
                <a:cubicBezTo>
                  <a:pt x="57" y="119"/>
                  <a:pt x="73" y="47"/>
                  <a:pt x="100" y="67"/>
                </a:cubicBezTo>
                <a:cubicBezTo>
                  <a:pt x="115" y="78"/>
                  <a:pt x="105" y="104"/>
                  <a:pt x="111" y="122"/>
                </a:cubicBezTo>
                <a:cubicBezTo>
                  <a:pt x="116" y="135"/>
                  <a:pt x="127" y="144"/>
                  <a:pt x="133" y="156"/>
                </a:cubicBezTo>
                <a:cubicBezTo>
                  <a:pt x="138" y="166"/>
                  <a:pt x="141" y="178"/>
                  <a:pt x="145" y="189"/>
                </a:cubicBezTo>
                <a:cubicBezTo>
                  <a:pt x="202" y="151"/>
                  <a:pt x="211" y="89"/>
                  <a:pt x="278" y="67"/>
                </a:cubicBezTo>
                <a:cubicBezTo>
                  <a:pt x="295" y="13"/>
                  <a:pt x="307" y="36"/>
                  <a:pt x="345" y="0"/>
                </a:cubicBezTo>
                <a:cubicBezTo>
                  <a:pt x="356" y="4"/>
                  <a:pt x="378" y="11"/>
                  <a:pt x="378" y="1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808680" y="2540160"/>
            <a:ext cx="246240" cy="245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7491240" y="2252520"/>
            <a:ext cx="246240" cy="2462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238880" y="2598840"/>
            <a:ext cx="246240" cy="245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9" name=""/>
          <p:cNvCxnSpPr>
            <a:stCxn id="278" idx="1"/>
            <a:endCxn id="276" idx="5"/>
          </p:cNvCxnSpPr>
          <p:nvPr/>
        </p:nvCxnSpPr>
        <p:spPr>
          <a:xfrm flipH="1">
            <a:off x="7017480" y="2635200"/>
            <a:ext cx="258120" cy="11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"/>
          <p:cNvCxnSpPr>
            <a:stCxn id="276" idx="7"/>
            <a:endCxn id="277" idx="2"/>
          </p:cNvCxnSpPr>
          <p:nvPr/>
        </p:nvCxnSpPr>
        <p:spPr>
          <a:xfrm flipH="1" flipV="1" rot="5400000">
            <a:off x="7154280" y="2239560"/>
            <a:ext cx="200880" cy="4737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81" name=""/>
          <p:cNvCxnSpPr>
            <a:stCxn id="278" idx="6"/>
            <a:endCxn id="277" idx="5"/>
          </p:cNvCxnSpPr>
          <p:nvPr/>
        </p:nvCxnSpPr>
        <p:spPr>
          <a:xfrm flipV="1">
            <a:off x="7485120" y="2461680"/>
            <a:ext cx="216720" cy="26136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mputer’s CPU executes program instru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arm kernel is sort of virtual CPU running model and GUI ev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sted Swarms merge schedules into 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834080" y="5261040"/>
            <a:ext cx="3251160" cy="77148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046200" y="5384880"/>
            <a:ext cx="826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099040" y="3236760"/>
            <a:ext cx="212760" cy="424080"/>
          </a:xfrm>
          <a:prstGeom prst="downArrow">
            <a:avLst>
              <a:gd name="adj1" fmla="val 50000"/>
              <a:gd name="adj2" fmla="val 49831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734160" y="3236760"/>
            <a:ext cx="212760" cy="424080"/>
          </a:xfrm>
          <a:prstGeom prst="downArrow">
            <a:avLst>
              <a:gd name="adj1" fmla="val 50000"/>
              <a:gd name="adj2" fmla="val 49831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146640" y="4165560"/>
            <a:ext cx="212760" cy="424080"/>
          </a:xfrm>
          <a:prstGeom prst="downArrow">
            <a:avLst>
              <a:gd name="adj1" fmla="val 50000"/>
              <a:gd name="adj2" fmla="val 49831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9120" y="5000760"/>
            <a:ext cx="212760" cy="423720"/>
          </a:xfrm>
          <a:prstGeom prst="downArrow">
            <a:avLst>
              <a:gd name="adj1" fmla="val 50000"/>
              <a:gd name="adj2" fmla="val 49788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5764320" y="3236760"/>
            <a:ext cx="212760" cy="424080"/>
          </a:xfrm>
          <a:prstGeom prst="downArrow">
            <a:avLst>
              <a:gd name="adj1" fmla="val 50000"/>
              <a:gd name="adj2" fmla="val 49831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7488360" y="3236760"/>
            <a:ext cx="212760" cy="424080"/>
          </a:xfrm>
          <a:prstGeom prst="downArrow">
            <a:avLst>
              <a:gd name="adj1" fmla="val 50000"/>
              <a:gd name="adj2" fmla="val 49831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6657840" y="4165560"/>
            <a:ext cx="212760" cy="424080"/>
          </a:xfrm>
          <a:prstGeom prst="downArrow">
            <a:avLst>
              <a:gd name="adj1" fmla="val 50000"/>
              <a:gd name="adj2" fmla="val 49831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6669000" y="5000040"/>
            <a:ext cx="212760" cy="423720"/>
          </a:xfrm>
          <a:prstGeom prst="downArrow">
            <a:avLst>
              <a:gd name="adj1" fmla="val 50000"/>
              <a:gd name="adj2" fmla="val 49788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8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9C416-6647-49D5-BAEC-B831F68F27B7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5E02C8-5CCC-4FFC-87EC-41DD5BB5E1F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Activity fra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des abstractions that allow programmer to treat event scheduling in the artificial world as objects, separate from elements of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de some useful shorthands to group actions and sort according to the desired order of ev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nce schedules are objects, all agents in simulation can communicate with them, to schedule future events or cause actions to be dropped based on specified contingen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8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C5B2B-EE86-4CD2-B359-8ABA06945298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72403B-601D-4F3F-87F2-B4E7DDC497A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 flipV="1">
            <a:off x="7818480" y="5211360"/>
            <a:ext cx="1440" cy="514440"/>
          </a:xfrm>
          <a:prstGeom prst="line">
            <a:avLst/>
          </a:prstGeom>
          <a:ln w="7632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lements of Activity libr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vityGro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ordered set of “simultaneous” even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edu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dered set of events or groups of ev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armActiv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lying VM executing schedul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162400" y="2152800"/>
            <a:ext cx="1714680" cy="971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223600" y="2212920"/>
            <a:ext cx="147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lk c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222880" y="265104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ean ba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991200" y="2152800"/>
            <a:ext cx="1714680" cy="476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33320" y="2193840"/>
            <a:ext cx="169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ve wh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933800" y="4324320"/>
            <a:ext cx="3619800" cy="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257800" y="4191120"/>
            <a:ext cx="247680" cy="2476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039000" y="4191120"/>
            <a:ext cx="247680" cy="2476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781680" y="4191120"/>
            <a:ext cx="247680" cy="2476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7505640" y="3467160"/>
            <a:ext cx="476280" cy="3240"/>
          </a:xfrm>
          <a:prstGeom prst="line">
            <a:avLst/>
          </a:prstGeom>
          <a:ln w="7632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639200" y="3333600"/>
            <a:ext cx="247680" cy="247680"/>
          </a:xfrm>
          <a:prstGeom prst="ellipse">
            <a:avLst/>
          </a:prstGeom>
          <a:solidFill>
            <a:srgbClr val="0099cc"/>
          </a:solidFill>
          <a:ln w="9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9" name=""/>
          <p:cNvCxnSpPr>
            <a:stCxn id="300" idx="2"/>
            <a:endCxn id="304" idx="7"/>
          </p:cNvCxnSpPr>
          <p:nvPr/>
        </p:nvCxnSpPr>
        <p:spPr>
          <a:xfrm rot="5400000">
            <a:off x="5163480" y="3412800"/>
            <a:ext cx="1119960" cy="510480"/>
          </a:xfrm>
          <a:prstGeom prst="bentConnector3">
            <a:avLst>
              <a:gd name="adj1" fmla="val 4836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0" name=""/>
          <p:cNvCxnSpPr>
            <a:stCxn id="300" idx="2"/>
            <a:endCxn id="305" idx="0"/>
          </p:cNvCxnSpPr>
          <p:nvPr/>
        </p:nvCxnSpPr>
        <p:spPr>
          <a:xfrm flipH="1" rot="16200000">
            <a:off x="5529240" y="3557160"/>
            <a:ext cx="1083240" cy="1850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1" name=""/>
          <p:cNvCxnSpPr>
            <a:stCxn id="300" idx="2"/>
            <a:endCxn id="306" idx="0"/>
          </p:cNvCxnSpPr>
          <p:nvPr/>
        </p:nvCxnSpPr>
        <p:spPr>
          <a:xfrm flipH="1" rot="16200000">
            <a:off x="5899680" y="3186000"/>
            <a:ext cx="1083240" cy="9277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2" name=""/>
          <p:cNvCxnSpPr>
            <a:stCxn id="300" idx="2"/>
            <a:endCxn id="313" idx="0"/>
          </p:cNvCxnSpPr>
          <p:nvPr/>
        </p:nvCxnSpPr>
        <p:spPr>
          <a:xfrm flipH="1" rot="16200000">
            <a:off x="6309360" y="2776320"/>
            <a:ext cx="1083240" cy="17470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4" name=""/>
          <p:cNvCxnSpPr>
            <a:stCxn id="302" idx="2"/>
            <a:endCxn id="308" idx="0"/>
          </p:cNvCxnSpPr>
          <p:nvPr/>
        </p:nvCxnSpPr>
        <p:spPr>
          <a:xfrm rot="5400000">
            <a:off x="7480800" y="2932920"/>
            <a:ext cx="682920" cy="119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13" name=""/>
          <p:cNvSpPr/>
          <p:nvPr/>
        </p:nvSpPr>
        <p:spPr>
          <a:xfrm>
            <a:off x="7601040" y="4191120"/>
            <a:ext cx="247680" cy="2476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162400" y="2647800"/>
            <a:ext cx="1714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896000" y="5734080"/>
            <a:ext cx="3619440" cy="0"/>
          </a:xfrm>
          <a:prstGeom prst="line">
            <a:avLst/>
          </a:prstGeom>
          <a:ln w="7632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219640" y="5600880"/>
            <a:ext cx="247680" cy="24732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000840" y="5600880"/>
            <a:ext cx="247680" cy="24732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6781680" y="5600880"/>
            <a:ext cx="247680" cy="24732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677000" y="5600880"/>
            <a:ext cx="247680" cy="24732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7677000" y="5124600"/>
            <a:ext cx="247680" cy="247680"/>
          </a:xfrm>
          <a:prstGeom prst="ellipse">
            <a:avLst/>
          </a:prstGeom>
          <a:solidFill>
            <a:srgbClr val="0099cc"/>
          </a:solidFill>
          <a:ln w="9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943440" y="1981080"/>
            <a:ext cx="304560" cy="30492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876400" y="3467160"/>
            <a:ext cx="476280" cy="3240"/>
          </a:xfrm>
          <a:prstGeom prst="line">
            <a:avLst/>
          </a:prstGeom>
          <a:ln w="7632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828960" y="3467160"/>
            <a:ext cx="476280" cy="324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809880" y="4762440"/>
            <a:ext cx="476280" cy="3240"/>
          </a:xfrm>
          <a:prstGeom prst="line">
            <a:avLst/>
          </a:prstGeom>
          <a:ln w="7632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8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B523C-19A6-4DA6-94DD-ABE38303DB45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E86136-4289-44AF-B3BB-830371DD00B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rging schedules in Swa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chedules of each sub Swarm are merged into the schedule of next level 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ally all schedules are merged in the top level 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ows you to treat the model as a nested hierarchy of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767120" y="2433600"/>
            <a:ext cx="3660840" cy="170352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073480" y="2992320"/>
            <a:ext cx="650880" cy="650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353200" y="3106800"/>
            <a:ext cx="307800" cy="24588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992920" y="3035160"/>
            <a:ext cx="207720" cy="20808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7531920" y="3938760"/>
            <a:ext cx="930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326280" y="3701880"/>
            <a:ext cx="1255680" cy="500400"/>
          </a:xfrm>
          <a:custGeom>
            <a:avLst/>
            <a:gdLst/>
            <a:ahLst/>
            <a:rect l="l" t="t" r="r" b="b"/>
            <a:pathLst>
              <a:path w="269" h="515">
                <a:moveTo>
                  <a:pt x="0" y="0"/>
                </a:moveTo>
                <a:lnTo>
                  <a:pt x="86" y="75"/>
                </a:lnTo>
                <a:lnTo>
                  <a:pt x="129" y="118"/>
                </a:lnTo>
                <a:lnTo>
                  <a:pt x="139" y="161"/>
                </a:lnTo>
                <a:lnTo>
                  <a:pt x="129" y="247"/>
                </a:lnTo>
                <a:lnTo>
                  <a:pt x="96" y="343"/>
                </a:lnTo>
                <a:lnTo>
                  <a:pt x="75" y="407"/>
                </a:lnTo>
                <a:lnTo>
                  <a:pt x="75" y="450"/>
                </a:lnTo>
                <a:lnTo>
                  <a:pt x="86" y="482"/>
                </a:lnTo>
                <a:lnTo>
                  <a:pt x="171" y="504"/>
                </a:lnTo>
                <a:lnTo>
                  <a:pt x="204" y="514"/>
                </a:lnTo>
                <a:lnTo>
                  <a:pt x="246" y="514"/>
                </a:lnTo>
                <a:lnTo>
                  <a:pt x="268" y="51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646520" y="2000160"/>
            <a:ext cx="1303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453280" y="2577960"/>
            <a:ext cx="23871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p level 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6" name=""/>
          <p:cNvCxnSpPr>
            <a:stCxn id="334" idx="2"/>
            <a:endCxn id="329" idx="2"/>
          </p:cNvCxnSpPr>
          <p:nvPr/>
        </p:nvCxnSpPr>
        <p:spPr>
          <a:xfrm rot="5400000">
            <a:off x="4755240" y="2774520"/>
            <a:ext cx="861120" cy="226440"/>
          </a:xfrm>
          <a:prstGeom prst="curvedConnector5">
            <a:avLst>
              <a:gd name="adj1" fmla="val 30991"/>
              <a:gd name="adj2" fmla="val 100636"/>
              <a:gd name="adj3" fmla="val 30991"/>
            </a:avLst>
          </a:prstGeom>
          <a:ln w="19080">
            <a:solidFill>
              <a:srgbClr val="000000"/>
            </a:solidFill>
            <a:miter/>
          </a:ln>
        </p:spPr>
      </p:cxnSp>
      <p:sp>
        <p:nvSpPr>
          <p:cNvPr id="337" name=""/>
          <p:cNvSpPr/>
          <p:nvPr/>
        </p:nvSpPr>
        <p:spPr>
          <a:xfrm>
            <a:off x="6464160" y="2959200"/>
            <a:ext cx="208080" cy="20772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021360" y="3417840"/>
            <a:ext cx="208080" cy="20808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562800" y="3413160"/>
            <a:ext cx="207720" cy="20808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943680" y="3071880"/>
            <a:ext cx="208080" cy="19044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7307280" y="3279600"/>
            <a:ext cx="208080" cy="19080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759200" y="4341960"/>
            <a:ext cx="3660840" cy="170316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3" name=""/>
          <p:cNvCxnSpPr/>
          <p:nvPr/>
        </p:nvCxnSpPr>
        <p:spPr>
          <a:xfrm flipH="1" rot="10800000">
            <a:off x="5360040" y="3513960"/>
            <a:ext cx="51480" cy="1707480"/>
          </a:xfrm>
          <a:prstGeom prst="bentConnector4">
            <a:avLst>
              <a:gd name="adj1" fmla="val -450000"/>
              <a:gd name="adj2" fmla="val 59531"/>
            </a:avLst>
          </a:prstGeom>
          <a:ln w="9360">
            <a:solidFill>
              <a:srgbClr val="b2b2b2"/>
            </a:solidFill>
            <a:miter/>
          </a:ln>
        </p:spPr>
      </p:cxnSp>
      <p:sp>
        <p:nvSpPr>
          <p:cNvPr id="344" name=""/>
          <p:cNvSpPr/>
          <p:nvPr/>
        </p:nvSpPr>
        <p:spPr>
          <a:xfrm>
            <a:off x="5262480" y="4883040"/>
            <a:ext cx="650880" cy="650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5513400" y="4995720"/>
            <a:ext cx="307800" cy="2714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950080" y="4608360"/>
            <a:ext cx="207720" cy="20808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6352560" y="4521240"/>
            <a:ext cx="1699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ub 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562800" y="4975200"/>
            <a:ext cx="207720" cy="20808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154560" y="5168880"/>
            <a:ext cx="208080" cy="20808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645240" y="5410080"/>
            <a:ext cx="208080" cy="20808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7024680" y="5176800"/>
            <a:ext cx="208080" cy="19044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7388280" y="5046840"/>
            <a:ext cx="208080" cy="19044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8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836FA-A6F4-4D54-9161-E1CB23D5BC5C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6FC126-4B0E-42DA-8DE1-065E43B874A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aging memory in Swa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allocation and deallocation of memory is a necessary feature in an OO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warm provides libraries for this purpose which make the process transparent to us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sic feature: Objects are created and dropped using a notion of memory z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extension of same principle can also drop entire collections or sub Swa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8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7CD43-4752-4AE2-B892-7DDD7695EF00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8A56E9-0BB2-4281-80FD-DB0A4827746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rst ses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ckgr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and overview of Swarm proj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ributions of Swa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ral  structure of simulations in Swa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ick and dirty introduction to Objective-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cumentation, resources, user commun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8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CFD70-AFEB-4243-AC3F-D5BFCB10129C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CB0E1A-BC94-4728-AF71-5FB10749A8B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6858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agents and objects in Swarm can be prob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e attaches itself to an agent, can send a message, change a variable or retrieve values by calling agent or reading variable direct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Prob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876920" y="3657600"/>
            <a:ext cx="1523880" cy="2133720"/>
          </a:xfrm>
          <a:prstGeom prst="can">
            <a:avLst>
              <a:gd name="adj" fmla="val 25000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 rot="2067600">
            <a:off x="5790960" y="2742840"/>
            <a:ext cx="304560" cy="1295280"/>
          </a:xfrm>
          <a:prstGeom prst="cube">
            <a:avLst>
              <a:gd name="adj" fmla="val 25000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rot="2290200">
            <a:off x="5562360" y="2514600"/>
            <a:ext cx="1600200" cy="533520"/>
          </a:xfrm>
          <a:prstGeom prst="can">
            <a:avLst>
              <a:gd name="adj" fmla="val 25000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flipH="1" rot="17278800">
            <a:off x="7010280" y="1447920"/>
            <a:ext cx="914400" cy="1828800"/>
          </a:xfrm>
          <a:custGeom>
            <a:avLst/>
            <a:gdLst>
              <a:gd name="textAreaLeft" fmla="*/ 122400 w 914400"/>
              <a:gd name="textAreaRight" fmla="*/ 792000 w 914400"/>
              <a:gd name="textAreaTop" fmla="*/ 320040 h 1828800"/>
              <a:gd name="textAreaBottom" fmla="*/ 13258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7162920" y="3124080"/>
            <a:ext cx="1371600" cy="99072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ar=10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5257800" y="4648320"/>
            <a:ext cx="676440" cy="35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Agent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8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DF1FD-E4B8-4BAE-93BA-48D32EEB23A5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94C9E9-4A56-4CD7-8E39-1F3D5164ED7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es and the GU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probe can be used to communicate with objects in real time through a graphical widg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default probe map of agent shows all variables and functions - can also customize displ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 flipV="1">
            <a:off x="6338880" y="4484160"/>
            <a:ext cx="976320" cy="481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4478400" y="5121360"/>
            <a:ext cx="779400" cy="1092240"/>
          </a:xfrm>
          <a:prstGeom prst="can">
            <a:avLst>
              <a:gd name="adj" fmla="val 25000"/>
            </a:avLst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rot="2067600">
            <a:off x="4963680" y="4689000"/>
            <a:ext cx="155520" cy="662040"/>
          </a:xfrm>
          <a:prstGeom prst="cube">
            <a:avLst>
              <a:gd name="adj" fmla="val 25000"/>
            </a:avLst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 rot="2290200">
            <a:off x="4846320" y="4571640"/>
            <a:ext cx="819000" cy="272880"/>
          </a:xfrm>
          <a:prstGeom prst="can">
            <a:avLst>
              <a:gd name="adj" fmla="val 25000"/>
            </a:avLst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b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595760" y="5568840"/>
            <a:ext cx="504720" cy="26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Agent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70" name=""/>
          <p:cNvSpPr/>
          <p:nvPr/>
        </p:nvSpPr>
        <p:spPr>
          <a:xfrm rot="2067600">
            <a:off x="5495400" y="3759120"/>
            <a:ext cx="152640" cy="966960"/>
          </a:xfrm>
          <a:prstGeom prst="cube">
            <a:avLst>
              <a:gd name="adj" fmla="val 25000"/>
            </a:avLst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1"/>
          <a:stretch/>
        </p:blipFill>
        <p:spPr>
          <a:xfrm>
            <a:off x="5791320" y="2438280"/>
            <a:ext cx="2260440" cy="2708280"/>
          </a:xfrm>
          <a:prstGeom prst="rect">
            <a:avLst/>
          </a:prstGeom>
          <a:ln w="0">
            <a:noFill/>
          </a:ln>
        </p:spPr>
      </p:pic>
      <p:sp>
        <p:nvSpPr>
          <p:cNvPr id="372" name=""/>
          <p:cNvSpPr/>
          <p:nvPr/>
        </p:nvSpPr>
        <p:spPr>
          <a:xfrm>
            <a:off x="5636520" y="5562720"/>
            <a:ext cx="192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ecutes meth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flipV="1">
            <a:off x="5867280" y="4952520"/>
            <a:ext cx="3049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216840" y="5234040"/>
            <a:ext cx="258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put value for vari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 flipV="1">
            <a:off x="7086600" y="4495320"/>
            <a:ext cx="45720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412880" y="1981080"/>
            <a:ext cx="23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en probe for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410080" y="2362320"/>
            <a:ext cx="5335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780600" y="1981080"/>
            <a:ext cx="140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ose 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7315200" y="2362320"/>
            <a:ext cx="5335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8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7D03A-319E-4B24-8742-53010117A73B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3FE28D-B093-4F7F-A060-20DBE4A3EE2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es without a GU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es are also used to gather information dynamically from single agents or collection of ag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mong other features is the ability to define and execute method calls on the fly at run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 rot="1005600">
            <a:off x="5103360" y="2511000"/>
            <a:ext cx="1420920" cy="768240"/>
          </a:xfrm>
          <a:prstGeom prst="rect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rot="1124400">
            <a:off x="5622840" y="3301920"/>
            <a:ext cx="157320" cy="1305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rot="897600">
            <a:off x="4150800" y="4527360"/>
            <a:ext cx="4135680" cy="76824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629240" y="4400640"/>
            <a:ext cx="571320" cy="57132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334120" y="4476600"/>
            <a:ext cx="571320" cy="57168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6019920" y="4514760"/>
            <a:ext cx="571320" cy="57168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705720" y="4591080"/>
            <a:ext cx="571320" cy="57132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7372440" y="4648320"/>
            <a:ext cx="571320" cy="57132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 rot="6522000">
            <a:off x="6922440" y="2674800"/>
            <a:ext cx="206640" cy="981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7372440" y="2495520"/>
            <a:ext cx="1066680" cy="1123920"/>
          </a:xfrm>
          <a:prstGeom prst="ellipse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386240" y="5356080"/>
            <a:ext cx="10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124600" y="5718240"/>
            <a:ext cx="250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collectio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032440" y="1984320"/>
            <a:ext cx="354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 that analyze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147080" y="3660840"/>
            <a:ext cx="163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 tha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s on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6" name=""/>
          <p:cNvCxnSpPr>
            <a:stCxn id="392" idx="1"/>
            <a:endCxn id="385" idx="3"/>
          </p:cNvCxnSpPr>
          <p:nvPr/>
        </p:nvCxnSpPr>
        <p:spPr>
          <a:xfrm flipH="1" rot="10800000">
            <a:off x="4384440" y="4887360"/>
            <a:ext cx="329040" cy="697320"/>
          </a:xfrm>
          <a:prstGeom prst="curvedConnector5">
            <a:avLst>
              <a:gd name="adj1" fmla="val -69550"/>
              <a:gd name="adj2" fmla="val 30165"/>
              <a:gd name="adj3" fmla="val -6955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97" name=""/>
          <p:cNvCxnSpPr>
            <a:stCxn id="393" idx="3"/>
            <a:endCxn id="384" idx="3"/>
          </p:cNvCxnSpPr>
          <p:nvPr/>
        </p:nvCxnSpPr>
        <p:spPr>
          <a:xfrm flipV="1">
            <a:off x="7626240" y="5444640"/>
            <a:ext cx="589680" cy="502560"/>
          </a:xfrm>
          <a:prstGeom prst="curvedConnector5">
            <a:avLst>
              <a:gd name="adj1" fmla="val 155772"/>
              <a:gd name="adj2" fmla="val 49964"/>
              <a:gd name="adj3" fmla="val 15577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98" name=""/>
          <p:cNvCxnSpPr>
            <a:stCxn id="394" idx="1"/>
            <a:endCxn id="382" idx="1"/>
          </p:cNvCxnSpPr>
          <p:nvPr/>
        </p:nvCxnSpPr>
        <p:spPr>
          <a:xfrm flipH="1" flipV="1" rot="10800000">
            <a:off x="5032080" y="2211840"/>
            <a:ext cx="102240" cy="477000"/>
          </a:xfrm>
          <a:prstGeom prst="curvedConnector5">
            <a:avLst>
              <a:gd name="adj1" fmla="val -234275"/>
              <a:gd name="adj2" fmla="val 50000"/>
              <a:gd name="adj3" fmla="val -234275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99" name=""/>
          <p:cNvSpPr/>
          <p:nvPr/>
        </p:nvSpPr>
        <p:spPr>
          <a:xfrm>
            <a:off x="4309920" y="3565440"/>
            <a:ext cx="8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9" idx="2"/>
            <a:endCxn id="383" idx="1"/>
          </p:cNvCxnSpPr>
          <p:nvPr/>
        </p:nvCxnSpPr>
        <p:spPr>
          <a:xfrm flipH="1" flipV="1" rot="5400000">
            <a:off x="5143320" y="3539880"/>
            <a:ext cx="95760" cy="870480"/>
          </a:xfrm>
          <a:prstGeom prst="curvedConnector5">
            <a:avLst>
              <a:gd name="adj1" fmla="val -240000"/>
              <a:gd name="adj2" fmla="val 31816"/>
              <a:gd name="adj3" fmla="val -24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8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A1B3A-CC31-4DD7-9356-853D74A892DF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6BF9AF-F9E0-4A94-92D0-84BA0DD2D9E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Graphical User Interf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s provided to create and manag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ne grap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stogra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ster im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grap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collection, calculation and updating is provided through support objects to the GUI widg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3" name="ezgraph" descr=""/>
          <p:cNvPicPr/>
          <p:nvPr/>
        </p:nvPicPr>
        <p:blipFill>
          <a:blip r:embed="rId1"/>
          <a:stretch/>
        </p:blipFill>
        <p:spPr>
          <a:xfrm>
            <a:off x="4626000" y="1933560"/>
            <a:ext cx="2590920" cy="1739880"/>
          </a:xfrm>
          <a:prstGeom prst="rect">
            <a:avLst/>
          </a:prstGeom>
          <a:ln w="0">
            <a:noFill/>
          </a:ln>
        </p:spPr>
      </p:pic>
      <p:pic>
        <p:nvPicPr>
          <p:cNvPr id="404" name="ezbin" descr=""/>
          <p:cNvPicPr/>
          <p:nvPr/>
        </p:nvPicPr>
        <p:blipFill>
          <a:blip r:embed="rId2"/>
          <a:stretch/>
        </p:blipFill>
        <p:spPr>
          <a:xfrm>
            <a:off x="5600880" y="3081240"/>
            <a:ext cx="2628720" cy="1784520"/>
          </a:xfrm>
          <a:prstGeom prst="rect">
            <a:avLst/>
          </a:prstGeom>
          <a:ln w="0">
            <a:noFill/>
          </a:ln>
        </p:spPr>
      </p:pic>
      <p:sp>
        <p:nvSpPr>
          <p:cNvPr id="405" name=""/>
          <p:cNvSpPr/>
          <p:nvPr/>
        </p:nvSpPr>
        <p:spPr>
          <a:xfrm>
            <a:off x="4508640" y="4102200"/>
            <a:ext cx="2025360" cy="204300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6" name="" descr=""/>
          <p:cNvPicPr/>
          <p:nvPr/>
        </p:nvPicPr>
        <p:blipFill>
          <a:blip r:embed="rId3"/>
          <a:stretch/>
        </p:blipFill>
        <p:spPr>
          <a:xfrm>
            <a:off x="4583160" y="4184640"/>
            <a:ext cx="1876320" cy="1876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8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C2E97-049B-4403-9E97-6843509EBA4B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52AEB8-EDA0-4944-BF9C-FEFC8C22BA3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/>
          <p:nvPr/>
        </p:nvSpPr>
        <p:spPr>
          <a:xfrm rot="1124400">
            <a:off x="5663880" y="3228480"/>
            <a:ext cx="95040" cy="78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 rot="1124400">
            <a:off x="6883200" y="3285720"/>
            <a:ext cx="95040" cy="78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469200" y="3790800"/>
            <a:ext cx="641160" cy="67644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 rot="1124400">
            <a:off x="6578280" y="4390560"/>
            <a:ext cx="95040" cy="78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rot="1005600">
            <a:off x="5028840" y="3762000"/>
            <a:ext cx="853920" cy="461880"/>
          </a:xfrm>
          <a:prstGeom prst="rect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eeding data to the GUI widge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 rot="1124400">
            <a:off x="5340240" y="4238280"/>
            <a:ext cx="95400" cy="7840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 rot="897600">
            <a:off x="4456080" y="4974840"/>
            <a:ext cx="2486160" cy="46188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743360" y="4898880"/>
            <a:ext cx="343080" cy="34308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167440" y="4944960"/>
            <a:ext cx="342720" cy="34308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580000" y="4967280"/>
            <a:ext cx="343080" cy="34452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991120" y="5013360"/>
            <a:ext cx="344520" cy="34272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392880" y="5048280"/>
            <a:ext cx="342720" cy="34272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0" name="ezgraph" descr=""/>
          <p:cNvPicPr/>
          <p:nvPr/>
        </p:nvPicPr>
        <p:blipFill>
          <a:blip r:embed="rId1"/>
          <a:stretch/>
        </p:blipFill>
        <p:spPr>
          <a:xfrm>
            <a:off x="5254560" y="1895400"/>
            <a:ext cx="2590920" cy="1739880"/>
          </a:xfrm>
          <a:prstGeom prst="rect">
            <a:avLst/>
          </a:prstGeom>
          <a:ln w="0">
            <a:noFill/>
          </a:ln>
        </p:spPr>
      </p:pic>
      <p:sp>
        <p:nvSpPr>
          <p:cNvPr id="421" name=""/>
          <p:cNvSpPr/>
          <p:nvPr/>
        </p:nvSpPr>
        <p:spPr>
          <a:xfrm>
            <a:off x="7357320" y="3870360"/>
            <a:ext cx="131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era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604320" y="3508200"/>
            <a:ext cx="131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era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c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4005000" y="4327560"/>
            <a:ext cx="8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7262640" y="4917960"/>
            <a:ext cx="8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833640" y="5375160"/>
            <a:ext cx="9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7164720" y="5546880"/>
            <a:ext cx="145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l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7" name=""/>
          <p:cNvCxnSpPr>
            <a:stCxn id="423" idx="3"/>
            <a:endCxn id="413" idx="1"/>
          </p:cNvCxnSpPr>
          <p:nvPr/>
        </p:nvCxnSpPr>
        <p:spPr>
          <a:xfrm>
            <a:off x="4898520" y="4555800"/>
            <a:ext cx="443880" cy="59400"/>
          </a:xfrm>
          <a:prstGeom prst="curvedConnector5">
            <a:avLst>
              <a:gd name="adj1" fmla="val 35795"/>
              <a:gd name="adj2" fmla="val 50000"/>
              <a:gd name="adj3" fmla="val 3579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28" name=""/>
          <p:cNvCxnSpPr>
            <a:stCxn id="424" idx="1"/>
            <a:endCxn id="410" idx="3"/>
          </p:cNvCxnSpPr>
          <p:nvPr/>
        </p:nvCxnSpPr>
        <p:spPr>
          <a:xfrm rot="10800000">
            <a:off x="6670080" y="4796640"/>
            <a:ext cx="591120" cy="349920"/>
          </a:xfrm>
          <a:prstGeom prst="curvedConnector5">
            <a:avLst>
              <a:gd name="adj1" fmla="val 39244"/>
              <a:gd name="adj2" fmla="val 49948"/>
              <a:gd name="adj3" fmla="val 39244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29" name=""/>
          <p:cNvCxnSpPr>
            <a:stCxn id="425" idx="2"/>
            <a:endCxn id="416" idx="4"/>
          </p:cNvCxnSpPr>
          <p:nvPr/>
        </p:nvCxnSpPr>
        <p:spPr>
          <a:xfrm flipH="1" flipV="1" rot="5400000">
            <a:off x="4544640" y="5038920"/>
            <a:ext cx="545040" cy="1042200"/>
          </a:xfrm>
          <a:prstGeom prst="curvedConnector5">
            <a:avLst>
              <a:gd name="adj1" fmla="val -41969"/>
              <a:gd name="adj2" fmla="val 50000"/>
              <a:gd name="adj3" fmla="val -41969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30" name=""/>
          <p:cNvCxnSpPr>
            <a:stCxn id="426" idx="2"/>
            <a:endCxn id="414" idx="3"/>
          </p:cNvCxnSpPr>
          <p:nvPr/>
        </p:nvCxnSpPr>
        <p:spPr>
          <a:xfrm flipV="1" rot="16200000">
            <a:off x="7156080" y="5268240"/>
            <a:ext cx="478800" cy="992880"/>
          </a:xfrm>
          <a:prstGeom prst="curvedConnector5">
            <a:avLst>
              <a:gd name="adj1" fmla="val -47780"/>
              <a:gd name="adj2" fmla="val 41748"/>
              <a:gd name="adj3" fmla="val -4778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31" name=""/>
          <p:cNvCxnSpPr>
            <a:stCxn id="422" idx="0"/>
            <a:endCxn id="411" idx="1"/>
          </p:cNvCxnSpPr>
          <p:nvPr/>
        </p:nvCxnSpPr>
        <p:spPr>
          <a:xfrm flipH="1" rot="16200000">
            <a:off x="4474080" y="3295080"/>
            <a:ext cx="361080" cy="785160"/>
          </a:xfrm>
          <a:prstGeom prst="curvedConnector5">
            <a:avLst>
              <a:gd name="adj1" fmla="val -63373"/>
              <a:gd name="adj2" fmla="val 43807"/>
              <a:gd name="adj3" fmla="val -63373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32" name=""/>
          <p:cNvCxnSpPr>
            <a:stCxn id="421" idx="0"/>
            <a:endCxn id="409" idx="6"/>
          </p:cNvCxnSpPr>
          <p:nvPr/>
        </p:nvCxnSpPr>
        <p:spPr>
          <a:xfrm rot="5400000">
            <a:off x="7432920" y="3546360"/>
            <a:ext cx="259560" cy="905760"/>
          </a:xfrm>
          <a:prstGeom prst="curvedConnector5">
            <a:avLst>
              <a:gd name="adj1" fmla="val -88333"/>
              <a:gd name="adj2" fmla="val 43220"/>
              <a:gd name="adj3" fmla="val -88333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33" name=""/>
          <p:cNvSpPr/>
          <p:nvPr/>
        </p:nvSpPr>
        <p:spPr>
          <a:xfrm>
            <a:off x="3681720" y="2498760"/>
            <a:ext cx="101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p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d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4" name=""/>
          <p:cNvCxnSpPr>
            <a:stCxn id="433" idx="0"/>
            <a:endCxn id="420" idx="1"/>
          </p:cNvCxnSpPr>
          <p:nvPr/>
        </p:nvCxnSpPr>
        <p:spPr>
          <a:xfrm flipH="1" rot="16200000">
            <a:off x="4589640" y="2098800"/>
            <a:ext cx="267120" cy="1064160"/>
          </a:xfrm>
          <a:prstGeom prst="curvedConnector5">
            <a:avLst>
              <a:gd name="adj1" fmla="val -85695"/>
              <a:gd name="adj2" fmla="val 36988"/>
              <a:gd name="adj3" fmla="val -85695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308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put on graphs or other widgets relies heavily on the probes and dynamic access to agent’s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arm collection objects also facilitate pro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8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ED9F8-78E5-47B9-9E4B-72676E6072F6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52C8ED-6B0B-42DB-A62C-60A76127D9E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Objective-C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story: Created by Brad Cox, most intensively used by NeXT, now owned by Apple Computer and forms basis for Rhapsody 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 difference between C++ and Objective-C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sy to learn: A simple superclass of C - no new keyw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ially interpreted: Dynamic binding at runtime for objects and methods. Static typing option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reator and destructor functions as in C++, nor overloading of functions or multiple inheri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8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67832-AF12-430F-9139-84EB471E99AC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002E87-CA19-4F9D-863F-FF3016456C2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/>
          <p:nvPr/>
        </p:nvSpPr>
        <p:spPr>
          <a:xfrm>
            <a:off x="571680" y="4324320"/>
            <a:ext cx="4095720" cy="76212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1680" y="2666880"/>
            <a:ext cx="4133520" cy="104796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971800" y="2171880"/>
            <a:ext cx="1619280" cy="3618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133720" y="2171880"/>
            <a:ext cx="514080" cy="3618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few Objective-C bas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146640" y="2543040"/>
            <a:ext cx="541440" cy="5414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7088040" y="3319560"/>
            <a:ext cx="541440" cy="54108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337000" y="3336840"/>
            <a:ext cx="541440" cy="541440"/>
          </a:xfrm>
          <a:prstGeom prst="ellipse">
            <a:avLst/>
          </a:pr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6" name=""/>
          <p:cNvCxnSpPr>
            <a:stCxn id="443" idx="4"/>
            <a:endCxn id="445" idx="0"/>
          </p:cNvCxnSpPr>
          <p:nvPr/>
        </p:nvCxnSpPr>
        <p:spPr>
          <a:xfrm rot="5400000">
            <a:off x="5886720" y="2805480"/>
            <a:ext cx="253080" cy="810360"/>
          </a:xfrm>
          <a:prstGeom prst="bentConnector3">
            <a:avLst>
              <a:gd name="adj1" fmla="val 4957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47" name=""/>
          <p:cNvCxnSpPr>
            <a:stCxn id="443" idx="4"/>
            <a:endCxn id="444" idx="0"/>
          </p:cNvCxnSpPr>
          <p:nvPr/>
        </p:nvCxnSpPr>
        <p:spPr>
          <a:xfrm flipH="1" rot="16200000">
            <a:off x="6771240" y="2730960"/>
            <a:ext cx="235800" cy="9417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48" name=""/>
          <p:cNvSpPr/>
          <p:nvPr/>
        </p:nvSpPr>
        <p:spPr>
          <a:xfrm>
            <a:off x="605160" y="2208240"/>
            <a:ext cx="42955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@interface Bug : SwarmObjec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xPos, yPo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worldXSize, worldYSiz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d foodSpac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setX: (int) x Y: (int) 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ste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@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5146560" y="4226040"/>
            <a:ext cx="1363680" cy="1390680"/>
          </a:xfrm>
          <a:prstGeom prst="ellipse">
            <a:avLst/>
          </a:pr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5238720" y="49528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1" name=""/>
          <p:cNvCxnSpPr>
            <a:endCxn id="439" idx="3"/>
          </p:cNvCxnSpPr>
          <p:nvPr/>
        </p:nvCxnSpPr>
        <p:spPr>
          <a:xfrm rot="10800000">
            <a:off x="4704480" y="3191040"/>
            <a:ext cx="515160" cy="1390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2" name=""/>
          <p:cNvCxnSpPr>
            <a:endCxn id="438" idx="3"/>
          </p:cNvCxnSpPr>
          <p:nvPr/>
        </p:nvCxnSpPr>
        <p:spPr>
          <a:xfrm rot="10800000">
            <a:off x="4666680" y="4704480"/>
            <a:ext cx="552960" cy="457920"/>
          </a:xfrm>
          <a:prstGeom prst="bentConnector3">
            <a:avLst>
              <a:gd name="adj1" fmla="val 4996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3" name=""/>
          <p:cNvCxnSpPr>
            <a:stCxn id="443" idx="0"/>
            <a:endCxn id="440" idx="0"/>
          </p:cNvCxnSpPr>
          <p:nvPr/>
        </p:nvCxnSpPr>
        <p:spPr>
          <a:xfrm flipV="1" rot="16200000">
            <a:off x="4913640" y="1038240"/>
            <a:ext cx="371880" cy="2637720"/>
          </a:xfrm>
          <a:prstGeom prst="bentConnector3">
            <a:avLst>
              <a:gd name="adj1" fmla="val 16153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4" name=""/>
          <p:cNvCxnSpPr>
            <a:stCxn id="445" idx="2"/>
            <a:endCxn id="441" idx="0"/>
          </p:cNvCxnSpPr>
          <p:nvPr/>
        </p:nvCxnSpPr>
        <p:spPr>
          <a:xfrm rot="10800000">
            <a:off x="2390040" y="2171160"/>
            <a:ext cx="2946960" cy="1437120"/>
          </a:xfrm>
          <a:prstGeom prst="bentConnector4">
            <a:avLst>
              <a:gd name="adj1" fmla="val 6841"/>
              <a:gd name="adj2" fmla="val 13179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55" name=""/>
          <p:cNvSpPr/>
          <p:nvPr/>
        </p:nvSpPr>
        <p:spPr>
          <a:xfrm>
            <a:off x="6842160" y="2365200"/>
            <a:ext cx="15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er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052400" y="4022640"/>
            <a:ext cx="157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7089840" y="4651200"/>
            <a:ext cx="135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6785640" y="5794200"/>
            <a:ext cx="124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9" name=""/>
          <p:cNvCxnSpPr>
            <a:stCxn id="458" idx="1"/>
            <a:endCxn id="449" idx="4"/>
          </p:cNvCxnSpPr>
          <p:nvPr/>
        </p:nvCxnSpPr>
        <p:spPr>
          <a:xfrm rot="10800000">
            <a:off x="5828760" y="5616000"/>
            <a:ext cx="956160" cy="40680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60" name=""/>
          <p:cNvCxnSpPr>
            <a:stCxn id="457" idx="1"/>
            <a:endCxn id="449" idx="7"/>
          </p:cNvCxnSpPr>
          <p:nvPr/>
        </p:nvCxnSpPr>
        <p:spPr>
          <a:xfrm rot="10800000">
            <a:off x="6309720" y="4428360"/>
            <a:ext cx="780120" cy="634320"/>
          </a:xfrm>
          <a:prstGeom prst="curvedConnector5">
            <a:avLst>
              <a:gd name="adj1" fmla="val 37026"/>
              <a:gd name="adj2" fmla="val 84043"/>
              <a:gd name="adj3" fmla="val 37026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8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58FC5-A8C5-4A97-8866-430680027DC2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255193-92D5-4F96-BF85-48D6986EE36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basic synta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66704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@interf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clarations of instance variables and metho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-mess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clares a method called `message'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message: (type) v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clares method called ‘message’ that takes one argu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612720" y="1981080"/>
            <a:ext cx="40482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@interface Bug:SwarmObjec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xPos, yPo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worldXSize,worldYSiz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d foodSpac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setX: (int) x Y: (int) 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ste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@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8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54409-71BC-4D8D-953E-0F4E2FFBEB0A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8200E6-D859-4C47-8480-01A58CF0922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Objective-C synta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ing metho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Message: (type) v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aMessage:(type)v1 with:(type)v2 and:(type) v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lling metho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obj aMessage: val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obj aMessage: val1 with: val2 and: val3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obj aMessage: val1 with: val2 and: val3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8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2A409-50AE-45AE-9E13-776F85B5D40B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CD1671-B303-42E9-A278-FDD76670C9D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id variable type etc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ault variable type for object in ObjC is 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nk of this as a special variable type (which is actually a pointer to a special data structure - namely the objec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objects can refer to themselves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self ...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objects can refer to superclass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super ...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8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97ADE-B787-444F-98B3-CB62D842D9D4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98C382-A167-4176-8550-992F59E95B0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cus for the d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general structure of a Swarm simu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in contributions of the Swarm proje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t management: Swarms, Activity libr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ormation mangement: Prob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ical input and output: GUI 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mory manag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8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E430D-925D-420C-9F10-F545F6884D1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E824D4-E0C0-4241-8E52-E66D7B83BA3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claring a cla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4454640" y="4781520"/>
            <a:ext cx="3938400" cy="116208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4425840" y="2662200"/>
            <a:ext cx="3938760" cy="195264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4419720" y="1981080"/>
            <a:ext cx="1523880" cy="38124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6019920" y="1981080"/>
            <a:ext cx="2438280" cy="38124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85800" y="1981080"/>
            <a:ext cx="3581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header file or interface declar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s 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’s super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ance 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4419720" y="1981080"/>
            <a:ext cx="4114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@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erface  Obj:SuperCla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artype Ivar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artype Ivar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artype Iva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(vartype)aMetho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anotherMethod: (vartype) arg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8085240" y="2629080"/>
            <a:ext cx="458640" cy="474480"/>
          </a:xfrm>
          <a:custGeom>
            <a:avLst/>
            <a:gdLst>
              <a:gd name="textAreaLeft" fmla="*/ 104760 w 458640"/>
              <a:gd name="textAreaRight" fmla="*/ 353880 w 458640"/>
              <a:gd name="textAreaTop" fmla="*/ 108360 h 474480"/>
              <a:gd name="textAreaBottom" fmla="*/ 366120 h 474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085240" y="1828800"/>
            <a:ext cx="458640" cy="474840"/>
          </a:xfrm>
          <a:custGeom>
            <a:avLst/>
            <a:gdLst>
              <a:gd name="textAreaLeft" fmla="*/ 104760 w 458640"/>
              <a:gd name="textAreaRight" fmla="*/ 353880 w 458640"/>
              <a:gd name="textAreaTop" fmla="*/ 108360 h 474840"/>
              <a:gd name="textAreaBottom" fmla="*/ 366480 h 474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4043520" y="1857240"/>
            <a:ext cx="458640" cy="474840"/>
          </a:xfrm>
          <a:custGeom>
            <a:avLst/>
            <a:gdLst>
              <a:gd name="textAreaLeft" fmla="*/ 104760 w 458640"/>
              <a:gd name="textAreaRight" fmla="*/ 353880 w 458640"/>
              <a:gd name="textAreaTop" fmla="*/ 108360 h 474840"/>
              <a:gd name="textAreaBottom" fmla="*/ 366480 h 474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8085240" y="4616280"/>
            <a:ext cx="458640" cy="474840"/>
          </a:xfrm>
          <a:custGeom>
            <a:avLst/>
            <a:gdLst>
              <a:gd name="textAreaLeft" fmla="*/ 104760 w 458640"/>
              <a:gd name="textAreaRight" fmla="*/ 353880 w 458640"/>
              <a:gd name="textAreaTop" fmla="*/ 108360 h 474840"/>
              <a:gd name="textAreaBottom" fmla="*/ 366480 h 474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82560" y="287352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682560" y="335916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682560" y="3828960"/>
            <a:ext cx="374760" cy="405000"/>
          </a:xfrm>
          <a:custGeom>
            <a:avLst/>
            <a:gdLst>
              <a:gd name="textAreaLeft" fmla="*/ 85320 w 374760"/>
              <a:gd name="textAreaRight" fmla="*/ 289440 w 374760"/>
              <a:gd name="textAreaTop" fmla="*/ 92520 h 405000"/>
              <a:gd name="textAreaBottom" fmla="*/ 312480 h 405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682560" y="424512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8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3B8DD-DFFC-4638-8014-3F6229DE6A1E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F65977-A607-4DD6-A51C-F6C51F29443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fining a cla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4275000" y="5041800"/>
            <a:ext cx="4449960" cy="1008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8292960" y="4719600"/>
            <a:ext cx="459000" cy="474840"/>
          </a:xfrm>
          <a:custGeom>
            <a:avLst/>
            <a:gdLst>
              <a:gd name="textAreaLeft" fmla="*/ 104760 w 459000"/>
              <a:gd name="textAreaRight" fmla="*/ 354240 w 459000"/>
              <a:gd name="textAreaTop" fmla="*/ 108360 h 474840"/>
              <a:gd name="textAreaBottom" fmla="*/ 366480 h 474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4264200" y="3425760"/>
            <a:ext cx="4449600" cy="13510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4270320" y="2003400"/>
            <a:ext cx="4449960" cy="3636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4267080" y="2697120"/>
            <a:ext cx="2210040" cy="380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6553080" y="2697120"/>
            <a:ext cx="2210040" cy="380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4267080" y="1981080"/>
            <a:ext cx="44960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import “Obj.h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@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mplementation  Ob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(vartype)aMethod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bod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returnva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anotherMethod: (vartype) ar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bod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self;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685800" y="1981080"/>
            <a:ext cx="3527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ed on the interface the object file contains the implementation of the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s are essentially C functions, same rules about return values and arguments, local vars etc. app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 returning no value must return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el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8242200" y="1890720"/>
            <a:ext cx="459000" cy="474480"/>
          </a:xfrm>
          <a:custGeom>
            <a:avLst/>
            <a:gdLst>
              <a:gd name="textAreaLeft" fmla="*/ 104760 w 459000"/>
              <a:gd name="textAreaRight" fmla="*/ 354240 w 459000"/>
              <a:gd name="textAreaTop" fmla="*/ 108360 h 474480"/>
              <a:gd name="textAreaBottom" fmla="*/ 366120 h 474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623880" y="236232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4373640" y="2360520"/>
            <a:ext cx="458640" cy="474840"/>
          </a:xfrm>
          <a:custGeom>
            <a:avLst/>
            <a:gdLst>
              <a:gd name="textAreaLeft" fmla="*/ 104760 w 458640"/>
              <a:gd name="textAreaRight" fmla="*/ 353880 w 458640"/>
              <a:gd name="textAreaTop" fmla="*/ 108360 h 474840"/>
              <a:gd name="textAreaBottom" fmla="*/ 366480 h 474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32840" y="2459160"/>
            <a:ext cx="458640" cy="474480"/>
          </a:xfrm>
          <a:custGeom>
            <a:avLst/>
            <a:gdLst>
              <a:gd name="textAreaLeft" fmla="*/ 104760 w 458640"/>
              <a:gd name="textAreaRight" fmla="*/ 353880 w 458640"/>
              <a:gd name="textAreaTop" fmla="*/ 108360 h 474480"/>
              <a:gd name="textAreaBottom" fmla="*/ 366120 h 474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7240" y="3209760"/>
            <a:ext cx="458640" cy="474840"/>
          </a:xfrm>
          <a:custGeom>
            <a:avLst/>
            <a:gdLst>
              <a:gd name="textAreaLeft" fmla="*/ 104760 w 458640"/>
              <a:gd name="textAreaRight" fmla="*/ 353880 w 458640"/>
              <a:gd name="textAreaTop" fmla="*/ 108360 h 474840"/>
              <a:gd name="textAreaBottom" fmla="*/ 366480 h 474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625320" y="276228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623880" y="314496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623880" y="3895560"/>
            <a:ext cx="374760" cy="405000"/>
          </a:xfrm>
          <a:custGeom>
            <a:avLst/>
            <a:gdLst>
              <a:gd name="textAreaLeft" fmla="*/ 85320 w 374760"/>
              <a:gd name="textAreaRight" fmla="*/ 289440 w 374760"/>
              <a:gd name="textAreaTop" fmla="*/ 92520 h 405000"/>
              <a:gd name="textAreaBottom" fmla="*/ 312480 h 405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8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927FE-B9A4-46CE-8FF9-794B6DE53FFF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9DFB2D-676E-423A-BC5F-085B17C3B5B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 Functions vs. ObjC method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ive-C metho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(type) name: (type) arg1 argName2: (type) arg2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bod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returnval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 func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(type)name((type) arg1,(type) arg2)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bod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returnval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324320" y="4857840"/>
            <a:ext cx="3543480" cy="1276200"/>
          </a:xfrm>
          <a:prstGeom prst="wedgeRectCallout">
            <a:avLst>
              <a:gd name="adj1" fmla="val -102643"/>
              <a:gd name="adj2" fmla="val -4402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de in body cou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ok exactly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me in C and Objective-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8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465C7-E6AB-4252-8241-FA2FB9A950C4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ADBE54-2120-4F43-85D2-81AF980CE14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 example of C vs. Obj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4019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void rand_move(int i) {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tmp_loc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o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mp_loc=get_rand_loc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while(val[tmp_loc]!=0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val[location[i]]=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val[tmp_loc]=i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628560" y="1981080"/>
            <a:ext cx="3905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rand_move: p {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d loc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o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oc=[self getRandLoc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while([world at: loc]!=nil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p moveTo: loc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sel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8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940E2-549D-4532-97E6-D6E74F414D14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A5641F-D2AD-44E3-B431-BACA8375633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resour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jective-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ew textbooks available because language is simply a superset of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 resource: Manual from Apple websi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 website at SFI: Code, manuals, lin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r community, mailinglists (and archiv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g, steal and borrow other people’s code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8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992CB-2ABC-483F-9E9A-AA08677C48F2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65A84B-4295-4DC5-BF64-437ADEDFDE2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to find hel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in Swarm webs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ttp://www.santafe.edu/projects/swa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Objective-C manu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 to above and look under Objective-C resour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bscribing to mailingli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d mail to majordomo@santafe.edu wi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scribe swarm-support &lt;Your E-mail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8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E33FF-F6F1-4F54-8F63-78515FDACB43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103863-E093-4A63-B006-2C9D06B31F8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y of Swa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ed in 1994 by Chris Langton at Santa Fe Institute in New Mexico (Contributors: Chris Langton, Roger Burkhart, Nelson Minar, Manor Askenazi, Glen Ropella, Sven Thommesen, Marcus Daniels, Alex Lancaster, Irene Le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ive: create a common simulation platform for AB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ased in beta in 1995, 1.0 release in January 1997, 1.1 with Win95/NT support : April 1998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xt steps: Windows 95/NT version, (Rhapsody?), other GUI implementations, client-server approach, paralel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8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2BC3F-60C9-4089-B896-0759C45A380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5F67C5-0A53-43B1-BE0C-6E291898D78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sic fa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 is a collection of software libraries which provide support for simulation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s build simulations by incorporating Swarm objects in their own 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braries are written 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ive-C : A superset of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k/Tcl: Scripting language and GUI widgets. GUI is now independent of this implementation and may be substituted by other widget sets in near futur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ailable for X-Windows/Unix and Windows 95/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8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EC743-61B1-4B61-B5E8-C4BF8317C4A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29E238-D223-4212-8F46-D1A836E8319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ottom up model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862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4373640"/>
            <a:ext cx="1235160" cy="1376280"/>
          </a:xfrm>
          <a:prstGeom prst="flowChartMultidocument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6200000">
            <a:off x="4492440" y="3965040"/>
            <a:ext cx="1490760" cy="1636560"/>
          </a:xfrm>
          <a:custGeom>
            <a:avLst/>
            <a:gdLst>
              <a:gd name="textAreaLeft" fmla="*/ 0 w 1490760"/>
              <a:gd name="textAreaRight" fmla="*/ 1491120 w 1490760"/>
              <a:gd name="textAreaTop" fmla="*/ 0 h 1636560"/>
              <a:gd name="textAreaBottom" fmla="*/ 1636920 h 1636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99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956040" y="225432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118120" y="430848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40360" y="2909880"/>
            <a:ext cx="787680" cy="825480"/>
          </a:xfrm>
          <a:custGeom>
            <a:avLst/>
            <a:gdLst/>
            <a:ahLst/>
            <a:rect l="l" t="t" r="r" b="b"/>
            <a:pathLst>
              <a:path w="496" h="520">
                <a:moveTo>
                  <a:pt x="23" y="0"/>
                </a:moveTo>
                <a:cubicBezTo>
                  <a:pt x="252" y="76"/>
                  <a:pt x="482" y="152"/>
                  <a:pt x="489" y="233"/>
                </a:cubicBezTo>
                <a:cubicBezTo>
                  <a:pt x="496" y="314"/>
                  <a:pt x="134" y="520"/>
                  <a:pt x="67" y="489"/>
                </a:cubicBezTo>
                <a:cubicBezTo>
                  <a:pt x="0" y="458"/>
                  <a:pt x="82" y="121"/>
                  <a:pt x="89" y="45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929280" y="3121200"/>
            <a:ext cx="317520" cy="3711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100920" y="2786040"/>
            <a:ext cx="828360" cy="264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6224400" y="3703680"/>
            <a:ext cx="687240" cy="3888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1" name=""/>
          <p:cNvCxnSpPr>
            <a:endCxn id="53" idx="1"/>
          </p:cNvCxnSpPr>
          <p:nvPr/>
        </p:nvCxnSpPr>
        <p:spPr>
          <a:xfrm>
            <a:off x="6435360" y="4498920"/>
            <a:ext cx="370440" cy="564480"/>
          </a:xfrm>
          <a:prstGeom prst="bentConnector3">
            <a:avLst>
              <a:gd name="adj1" fmla="val 49708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" name=""/>
          <p:cNvSpPr/>
          <p:nvPr/>
        </p:nvSpPr>
        <p:spPr>
          <a:xfrm>
            <a:off x="4005360" y="3616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4840" y="5485320"/>
            <a:ext cx="260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ganizations of ag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2640" y="3809160"/>
            <a:ext cx="177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imate ag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043400" y="4883760"/>
            <a:ext cx="66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725280" y="5898240"/>
            <a:ext cx="209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tificial 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800040" y="3718440"/>
            <a:ext cx="11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486400" y="480060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048120" y="1981080"/>
            <a:ext cx="3370320" cy="39625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788000" y="2068560"/>
            <a:ext cx="1482480" cy="635040"/>
          </a:xfrm>
          <a:prstGeom prst="cube">
            <a:avLst>
              <a:gd name="adj" fmla="val 25000"/>
            </a:avLst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473720" y="2273400"/>
            <a:ext cx="1482480" cy="635040"/>
          </a:xfrm>
          <a:prstGeom prst="cube">
            <a:avLst>
              <a:gd name="adj" fmla="val 25000"/>
            </a:avLst>
          </a:prstGeom>
          <a:solidFill>
            <a:srgbClr val="808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311640" y="235728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240080" y="341316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382280" y="2940840"/>
            <a:ext cx="191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animate ag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95680" y="449568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800600" y="4952880"/>
            <a:ext cx="476280" cy="441360"/>
          </a:xfrm>
          <a:prstGeom prst="smileyFace">
            <a:avLst>
              <a:gd name="adj" fmla="val 518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46480" y="342900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649680" y="284652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41360" y="1619280"/>
            <a:ext cx="3048120" cy="2636640"/>
          </a:xfrm>
          <a:prstGeom prst="cloudCallout">
            <a:avLst>
              <a:gd name="adj1" fmla="val 76564"/>
              <a:gd name="adj2" fmla="val 2001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cond&g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h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ction1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ction2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/>
          <p:nvPr/>
        </p:nvCxnSpPr>
        <p:spPr>
          <a:xfrm flipH="1" rot="16200000">
            <a:off x="3451680" y="4111200"/>
            <a:ext cx="847080" cy="1011960"/>
          </a:xfrm>
          <a:prstGeom prst="curvedConnector2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1" name=""/>
          <p:cNvCxnSpPr/>
          <p:nvPr/>
        </p:nvCxnSpPr>
        <p:spPr>
          <a:xfrm flipV="1">
            <a:off x="4925520" y="3338640"/>
            <a:ext cx="623160" cy="295560"/>
          </a:xfrm>
          <a:prstGeom prst="curvedConnector2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8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5A34C-49E0-4111-9D4E-31F2824F1E5F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67B820-40A7-478F-9B97-1446C385AE6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bject Oriented Programm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65160" y="2550960"/>
            <a:ext cx="2689200" cy="2689200"/>
          </a:xfrm>
          <a:prstGeom prst="ellipse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693440" y="3198960"/>
            <a:ext cx="1355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640520" y="4268880"/>
            <a:ext cx="1253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83040" y="3065400"/>
            <a:ext cx="904680" cy="317520"/>
          </a:xfrm>
          <a:custGeom>
            <a:avLst/>
            <a:gdLst/>
            <a:ahLst/>
            <a:rect l="l" t="t" r="r" b="b"/>
            <a:pathLst>
              <a:path w="570" h="200">
                <a:moveTo>
                  <a:pt x="0" y="199"/>
                </a:moveTo>
                <a:lnTo>
                  <a:pt x="98" y="98"/>
                </a:lnTo>
                <a:lnTo>
                  <a:pt x="180" y="44"/>
                </a:lnTo>
                <a:lnTo>
                  <a:pt x="253" y="8"/>
                </a:lnTo>
                <a:lnTo>
                  <a:pt x="288" y="0"/>
                </a:lnTo>
                <a:lnTo>
                  <a:pt x="307" y="8"/>
                </a:lnTo>
                <a:lnTo>
                  <a:pt x="325" y="26"/>
                </a:lnTo>
                <a:lnTo>
                  <a:pt x="343" y="53"/>
                </a:lnTo>
                <a:lnTo>
                  <a:pt x="352" y="90"/>
                </a:lnTo>
                <a:lnTo>
                  <a:pt x="352" y="117"/>
                </a:lnTo>
                <a:lnTo>
                  <a:pt x="361" y="144"/>
                </a:lnTo>
                <a:lnTo>
                  <a:pt x="406" y="134"/>
                </a:lnTo>
                <a:lnTo>
                  <a:pt x="443" y="126"/>
                </a:lnTo>
                <a:lnTo>
                  <a:pt x="478" y="107"/>
                </a:lnTo>
                <a:lnTo>
                  <a:pt x="514" y="98"/>
                </a:lnTo>
                <a:lnTo>
                  <a:pt x="533" y="98"/>
                </a:lnTo>
                <a:lnTo>
                  <a:pt x="569" y="90"/>
                </a:lnTo>
                <a:lnTo>
                  <a:pt x="567" y="77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274920" y="4021200"/>
            <a:ext cx="838440" cy="261720"/>
          </a:xfrm>
          <a:custGeom>
            <a:avLst/>
            <a:gdLst/>
            <a:ahLst/>
            <a:rect l="l" t="t" r="r" b="b"/>
            <a:pathLst>
              <a:path w="528" h="165">
                <a:moveTo>
                  <a:pt x="0" y="164"/>
                </a:moveTo>
                <a:lnTo>
                  <a:pt x="12" y="126"/>
                </a:lnTo>
                <a:lnTo>
                  <a:pt x="58" y="71"/>
                </a:lnTo>
                <a:lnTo>
                  <a:pt x="121" y="35"/>
                </a:lnTo>
                <a:lnTo>
                  <a:pt x="157" y="27"/>
                </a:lnTo>
                <a:lnTo>
                  <a:pt x="175" y="54"/>
                </a:lnTo>
                <a:lnTo>
                  <a:pt x="194" y="71"/>
                </a:lnTo>
                <a:lnTo>
                  <a:pt x="221" y="71"/>
                </a:lnTo>
                <a:lnTo>
                  <a:pt x="284" y="44"/>
                </a:lnTo>
                <a:lnTo>
                  <a:pt x="311" y="27"/>
                </a:lnTo>
                <a:lnTo>
                  <a:pt x="338" y="17"/>
                </a:lnTo>
                <a:lnTo>
                  <a:pt x="357" y="27"/>
                </a:lnTo>
                <a:lnTo>
                  <a:pt x="384" y="35"/>
                </a:lnTo>
                <a:lnTo>
                  <a:pt x="420" y="35"/>
                </a:lnTo>
                <a:lnTo>
                  <a:pt x="447" y="27"/>
                </a:lnTo>
                <a:lnTo>
                  <a:pt x="483" y="8"/>
                </a:lnTo>
                <a:lnTo>
                  <a:pt x="519" y="0"/>
                </a:lnTo>
                <a:lnTo>
                  <a:pt x="527" y="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774600" y="2789280"/>
            <a:ext cx="796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711600" y="3689280"/>
            <a:ext cx="1303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hav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909800" y="5491080"/>
            <a:ext cx="1379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86640" y="2205000"/>
            <a:ext cx="825480" cy="825480"/>
          </a:xfrm>
          <a:prstGeom prst="ellipse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95920" y="3348000"/>
            <a:ext cx="825480" cy="825480"/>
          </a:xfrm>
          <a:prstGeom prst="ellipse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705200" y="4491000"/>
            <a:ext cx="825480" cy="825480"/>
          </a:xfrm>
          <a:prstGeom prst="ellipse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458040" y="4568760"/>
            <a:ext cx="825480" cy="825480"/>
          </a:xfrm>
          <a:prstGeom prst="ellipse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620120" y="3429000"/>
            <a:ext cx="825480" cy="825480"/>
          </a:xfrm>
          <a:prstGeom prst="ellipse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6070320" y="3071880"/>
            <a:ext cx="990360" cy="30456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097760" y="3089160"/>
            <a:ext cx="990720" cy="38124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5138640" y="4232160"/>
            <a:ext cx="914400" cy="30492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5600" y="4268880"/>
            <a:ext cx="838080" cy="38088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696080" y="3836880"/>
            <a:ext cx="752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518160" y="4992840"/>
            <a:ext cx="739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382000" y="5489640"/>
            <a:ext cx="1515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581960" y="2935440"/>
            <a:ext cx="512640" cy="223560"/>
          </a:xfrm>
          <a:custGeom>
            <a:avLst/>
            <a:gdLst/>
            <a:ahLst/>
            <a:rect l="l" t="t" r="r" b="b"/>
            <a:pathLst>
              <a:path w="323" h="141">
                <a:moveTo>
                  <a:pt x="0" y="140"/>
                </a:moveTo>
                <a:lnTo>
                  <a:pt x="32" y="65"/>
                </a:lnTo>
                <a:lnTo>
                  <a:pt x="64" y="22"/>
                </a:lnTo>
                <a:lnTo>
                  <a:pt x="86" y="11"/>
                </a:lnTo>
                <a:lnTo>
                  <a:pt x="118" y="22"/>
                </a:lnTo>
                <a:lnTo>
                  <a:pt x="161" y="33"/>
                </a:lnTo>
                <a:lnTo>
                  <a:pt x="204" y="65"/>
                </a:lnTo>
                <a:lnTo>
                  <a:pt x="214" y="97"/>
                </a:lnTo>
                <a:lnTo>
                  <a:pt x="247" y="65"/>
                </a:lnTo>
                <a:lnTo>
                  <a:pt x="268" y="33"/>
                </a:lnTo>
                <a:lnTo>
                  <a:pt x="289" y="11"/>
                </a:lnTo>
                <a:lnTo>
                  <a:pt x="322" y="0"/>
                </a:lnTo>
                <a:lnTo>
                  <a:pt x="322" y="1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625160" y="2546280"/>
            <a:ext cx="1253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756400" y="3768840"/>
            <a:ext cx="706320" cy="12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756480" y="2627280"/>
            <a:ext cx="723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802040" y="4898880"/>
            <a:ext cx="739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163520" y="3879360"/>
            <a:ext cx="2435400" cy="8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8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E26B8-5B71-430C-913E-332787E83BD8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EEDF5E-7463-4CDA-98D3-DEADC66B826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face vs. implem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WATCHC1" descr=""/>
          <p:cNvPicPr/>
          <p:nvPr/>
        </p:nvPicPr>
        <p:blipFill>
          <a:blip r:embed="rId1"/>
          <a:stretch/>
        </p:blipFill>
        <p:spPr>
          <a:xfrm>
            <a:off x="3005280" y="1943280"/>
            <a:ext cx="3651120" cy="280008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4419720" y="4813200"/>
            <a:ext cx="4152960" cy="1191240"/>
          </a:xfrm>
          <a:prstGeom prst="borderCallout1">
            <a:avLst>
              <a:gd name="adj1" fmla="val 18750"/>
              <a:gd name="adj2" fmla="val -8333"/>
              <a:gd name="adj3" fmla="val -104740"/>
              <a:gd name="adj4" fmla="val -5953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 only has to be familiar with the interface of an object, not it’s imple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66720" y="5052960"/>
            <a:ext cx="3029040" cy="825480"/>
          </a:xfrm>
          <a:prstGeom prst="borderCallout1">
            <a:avLst>
              <a:gd name="adj1" fmla="val 18750"/>
              <a:gd name="adj2" fmla="val -8333"/>
              <a:gd name="adj3" fmla="val -216171"/>
              <a:gd name="adj4" fmla="val 109162"/>
            </a:avLst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s hide their functions and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8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E2BD3-772A-4A2E-B4CE-D53ED089C250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63BA79-0144-4A7C-9F31-7D13C508C15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4746600" y="2035080"/>
            <a:ext cx="938160" cy="957240"/>
          </a:xfrm>
          <a:prstGeom prst="ellipse">
            <a:avLst/>
          </a:prstGeom>
          <a:solidFill>
            <a:srgbClr val="66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three principles of OO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caps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s hide their functions 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ethod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and data 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stance variable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method variabl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ch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ubclas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herits all variables of it’s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uper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lymorph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instances of same class, sharing behavior but not state or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908680" y="2035080"/>
            <a:ext cx="938160" cy="957240"/>
          </a:xfrm>
          <a:prstGeom prst="ellipse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499000" y="3476520"/>
            <a:ext cx="541440" cy="54144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200560" y="5576760"/>
            <a:ext cx="56376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37160" y="5283360"/>
            <a:ext cx="541440" cy="541080"/>
          </a:xfrm>
          <a:prstGeom prst="ellipse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86440" y="2540160"/>
            <a:ext cx="830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172120" y="5283360"/>
            <a:ext cx="541440" cy="541080"/>
          </a:xfrm>
          <a:prstGeom prst="ellipse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42000" y="5283360"/>
            <a:ext cx="541440" cy="541080"/>
          </a:xfrm>
          <a:prstGeom prst="ellipse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237360" y="5283360"/>
            <a:ext cx="541440" cy="541080"/>
          </a:xfrm>
          <a:prstGeom prst="ellipse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786720" y="5283360"/>
            <a:ext cx="541080" cy="541080"/>
          </a:xfrm>
          <a:prstGeom prst="ellipse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440400" y="4253040"/>
            <a:ext cx="541440" cy="54108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689360" y="4270320"/>
            <a:ext cx="541440" cy="54144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7" name=""/>
          <p:cNvCxnSpPr>
            <a:stCxn id="117" idx="4"/>
            <a:endCxn id="126" idx="0"/>
          </p:cNvCxnSpPr>
          <p:nvPr/>
        </p:nvCxnSpPr>
        <p:spPr>
          <a:xfrm rot="5400000">
            <a:off x="5238720" y="3738960"/>
            <a:ext cx="253080" cy="810360"/>
          </a:xfrm>
          <a:prstGeom prst="bentConnector3">
            <a:avLst>
              <a:gd name="adj1" fmla="val 4957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8" name=""/>
          <p:cNvCxnSpPr>
            <a:stCxn id="117" idx="4"/>
            <a:endCxn id="125" idx="0"/>
          </p:cNvCxnSpPr>
          <p:nvPr/>
        </p:nvCxnSpPr>
        <p:spPr>
          <a:xfrm flipH="1" rot="16200000">
            <a:off x="6122520" y="3664440"/>
            <a:ext cx="235800" cy="9421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29" name=""/>
          <p:cNvSpPr/>
          <p:nvPr/>
        </p:nvSpPr>
        <p:spPr>
          <a:xfrm>
            <a:off x="6270840" y="3527280"/>
            <a:ext cx="15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er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109640" y="4403880"/>
            <a:ext cx="157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319880" y="5264280"/>
            <a:ext cx="541440" cy="541080"/>
          </a:xfrm>
          <a:prstGeom prst="ellipse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853400" y="5264280"/>
            <a:ext cx="541440" cy="541080"/>
          </a:xfrm>
          <a:prstGeom prst="ellipse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089840" y="2035080"/>
            <a:ext cx="938160" cy="95724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167600" y="2540160"/>
            <a:ext cx="830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805280" y="2521080"/>
            <a:ext cx="830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8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2B978-CB62-4255-8766-BF8AE6CA2446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653F0D-7FAD-4232-89AF-58AA2190B1D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15T01:43:27Z</dcterms:created>
  <dc:creator>Benedikt Stefansson</dc:creator>
  <dc:description/>
  <dc:language>en-US</dc:language>
  <cp:lastModifiedBy>Benedikt Stefansson</cp:lastModifiedBy>
  <dcterms:modified xsi:type="dcterms:W3CDTF">1998-03-19T09:05:11Z</dcterms:modified>
  <cp:revision>24</cp:revision>
  <dc:subject/>
  <dc:title>Swarmfest 1998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6777215</vt:r8>
  </property>
  <property fmtid="{D5CDD505-2E9C-101B-9397-08002B2CF9AE}" pid="3" name="ButtonType">
    <vt:r8>4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cce.sscnet.ucla.edu/swarmcourse</vt:lpwstr>
  </property>
  <property fmtid="{D5CDD505-2E9C-101B-9397-08002B2CF9AE}" pid="9" name="LinkColor">
    <vt:r8>16711782</vt:r8>
  </property>
  <property fmtid="{D5CDD505-2E9C-101B-9397-08002B2CF9AE}" pid="10" name="MailAddress">
    <vt:lpwstr>benedikt@ucla.edu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Documents\Benedikt\CourseMaterial\Swarmfest 1998</vt:lpwstr>
  </property>
  <property fmtid="{D5CDD505-2E9C-101B-9397-08002B2CF9AE}" pid="14" name="ScreenSize">
    <vt:r8>1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0</vt:bool>
  </property>
  <property fmtid="{D5CDD505-2E9C-101B-9397-08002B2CF9AE}" pid="21" name="VisitedColor">
    <vt:r8>10040268</vt:r8>
  </property>
</Properties>
</file>