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A6D3-3A4D-488D-99C4-99F1C5B5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F89B-89F9-4037-AD9A-31DE3CCB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12F8-2C57-42F6-B95E-D519E002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60C8-F452-4EA1-8355-99906C9D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ED4-C8C2-489E-8069-EAE1E31B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41DA-614A-49E5-8085-342B18C3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6DE5-6DB0-44B8-A9DC-D7A5CBC6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08DC-3CF9-403A-8D5B-CCB689EA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F926-3625-45CD-8E9E-946FC5FA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6561-B240-45AB-9A94-1DB15FC4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FC74-FC87-4EE5-9C51-7AE316DE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0D4F-4C64-41E4-B063-2C5CB607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B0DC-4F2C-48C2-8D58-DECB4B84A82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E07E-DB42-479C-A835-2E4AE73F6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8E4D-2C0D-4E33-9415-FBB030F733A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C1DB9-347A-4E46-A22A-5406C936AC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7220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20088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73380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5291-98BD-4807-970E-9A166D1A1E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FDB03-4064-4774-9D2C-F3A1D50CA4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475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, skip f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012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48769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5334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38098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C4D8-EB6A-4C59-9DFF-D27BBF16803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747D0-AB0F-4073-AEEB-0EA981101E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9E81-884C-45F0-A65F-F59377DC630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CD718-1BB4-4FF9-842F-436FB215E0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E0E-CAB2-451E-BB26-03698FAAAC6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21A420-0BA7-498A-8517-0DD7544344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6579-59CD-45BC-8DB5-EBA090F6069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6FC25-DF42-43C4-A827-59054B23A9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D46B-210A-43AA-8A36-F1463E35A3C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41E80-4D75-4C2D-B3FE-36B70762CD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000" y="220968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209680"/>
            <a:ext cx="312444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2F06-DDC0-4E3E-BA6C-2F0EBFE64A8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CDC93-10AB-4CDF-9DA9-E830F99B50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0A0C-CBDC-460F-A8D4-82F1C19C61A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DFD55-DA11-4C79-BBDB-D93853C2F5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00200" y="205740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 flipH="1">
            <a:off x="2018880" y="2705040"/>
            <a:ext cx="388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2456-5439-4617-84AA-0B2B0128B08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31767-A997-4067-8AE8-EAC95C181B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5C9C-FF9F-45D8-A56D-C99886809E4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ADA3D-AE2A-48B2-9F27-C44305AB5B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9AB5-1680-42E5-9BE9-AE062D49F45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7682A-799D-48EC-A575-B84C3EE11C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087C-A243-4DDD-ADE8-C7DCF0B4698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24379-48F5-4A9F-B07C-45B6D2377D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B5A-4561-4095-89DE-D6D73F1DE76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5046F-6576-4A48-8D2D-30580AB386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CE0-72B6-4566-8626-37F4B25B16D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2E775-5539-4C2E-8D58-A34CBAEAD2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91F3-2123-4AF2-8278-8AF91620ADD3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FDA9D-3F85-49F7-A97C-50DE571075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CFB0-DB06-4B35-B8D0-27CCC3BF1C48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7C5F7-AFD8-44D0-AD2E-383D34296C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538-5679-4A29-BAAC-3D870ABD78B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313FA-D10E-44B6-A142-68E47F5276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2734-67B0-470E-B0EB-C5DF4D65BFF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88775-689A-43C1-98FF-BE2F98AE2F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A961-5536-4570-B441-E2BF79C9B1A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C7F45-1237-48C3-B420-1A9EF61354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60D0-B85E-4EEE-9524-92225EA5A0F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F485E-0B1C-4CBC-935C-041A142C8A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wt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FED0-4DC9-4861-80C4-029CB926B09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7A2E5-2350-4DCD-ABBD-8EC571DE08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45E0-B822-45ED-8FC6-96BE8D03119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C8317-3F05-47CD-9C01-81E7BCD56F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s several objects to gather and display data on line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591080" y="2038320"/>
            <a:ext cx="4124160" cy="3543120"/>
            <a:chOff x="4591080" y="2038320"/>
            <a:chExt cx="4124160" cy="3543120"/>
          </a:xfrm>
        </p:grpSpPr>
        <p:sp>
          <p:nvSpPr>
            <p:cNvPr id="448" name=""/>
            <p:cNvSpPr/>
            <p:nvPr/>
          </p:nvSpPr>
          <p:spPr>
            <a:xfrm>
              <a:off x="5281560" y="3975120"/>
              <a:ext cx="1052640" cy="671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ver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91080" y="2908080"/>
              <a:ext cx="1052280" cy="671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Gra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31040" y="3975120"/>
              <a:ext cx="1050840" cy="67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B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9240" y="2038320"/>
              <a:ext cx="1052280" cy="66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62600" y="3970080"/>
              <a:ext cx="1052640" cy="669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trop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31040" y="4908240"/>
              <a:ext cx="1050840" cy="673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19880" y="2869920"/>
              <a:ext cx="1052280" cy="67176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54" idx="2"/>
              <a:endCxn id="448" idx="0"/>
            </p:cNvCxnSpPr>
            <p:nvPr/>
          </p:nvCxnSpPr>
          <p:spPr>
            <a:xfrm rot="5400000">
              <a:off x="6160320" y="3189240"/>
              <a:ext cx="434160" cy="1139040"/>
            </a:xfrm>
            <a:prstGeom prst="bentConnector3">
              <a:avLst>
                <a:gd name="adj1" fmla="val 4979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54" idx="2"/>
              <a:endCxn id="452" idx="0"/>
            </p:cNvCxnSpPr>
            <p:nvPr/>
          </p:nvCxnSpPr>
          <p:spPr>
            <a:xfrm flipH="1" rot="16200000">
              <a:off x="7353360" y="3134160"/>
              <a:ext cx="429120" cy="1243800"/>
            </a:xfrm>
            <a:prstGeom prst="bentConnector3">
              <a:avLst>
                <a:gd name="adj1" fmla="val 499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4" idx="2"/>
              <a:endCxn id="450" idx="0"/>
            </p:cNvCxnSpPr>
            <p:nvPr/>
          </p:nvCxnSpPr>
          <p:spPr>
            <a:xfrm>
              <a:off x="6946920" y="3541680"/>
              <a:ext cx="10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8" name=""/>
            <p:cNvCxnSpPr>
              <a:stCxn id="450" idx="2"/>
              <a:endCxn id="453" idx="0"/>
            </p:cNvCxnSpPr>
            <p:nvPr/>
          </p:nvCxnSpPr>
          <p:spPr>
            <a:xfrm>
              <a:off x="6955920" y="4647600"/>
              <a:ext cx="1080" cy="261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9" name=""/>
            <p:cNvCxnSpPr>
              <a:stCxn id="451" idx="1"/>
              <a:endCxn id="449" idx="0"/>
            </p:cNvCxnSpPr>
            <p:nvPr/>
          </p:nvCxnSpPr>
          <p:spPr>
            <a:xfrm flipV="1" rot="10800000">
              <a:off x="5117400" y="2372760"/>
              <a:ext cx="411840" cy="535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0" name=""/>
            <p:cNvCxnSpPr>
              <a:stCxn id="451" idx="3"/>
              <a:endCxn id="454" idx="0"/>
            </p:cNvCxnSpPr>
            <p:nvPr/>
          </p:nvCxnSpPr>
          <p:spPr>
            <a:xfrm>
              <a:off x="6581160" y="2373120"/>
              <a:ext cx="366120" cy="497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B02-D6B5-4DE5-B946-0A57B0601B3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56013-C447-4578-942D-DB2D76EEA6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817-37BC-47E9-B9C4-9D37643D9EEF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1C95D-9894-47EE-AC16-E44068116A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66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7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FFB4-B99F-4759-A304-2B25D9F34F6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54502-422C-4833-9EDC-DE49A7CCEA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AF40-7280-43F1-A771-CAFBF3B46E48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0F73E-14AC-4CC0-B446-5FD9651336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0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2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"/>
          <p:cNvCxnSpPr>
            <a:stCxn id="482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4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B15-B204-47E3-BBC4-01AFA4623FA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7A821-8761-49B3-9C9F-31F5EDEB05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D7C2-43E9-4EE7-AFA7-79908FB345A5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86973-EFBF-4CEF-9FE4-368EFD51CD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stCxn id="493" idx="1"/>
            <a:endCxn id="497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8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497" idx="2"/>
            <a:endCxn id="492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0" idx="2"/>
            <a:endCxn id="492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C5F3-BF6F-40D9-8546-68572848911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4AA59-44B9-4618-9E53-0A692CFDC0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7" name=""/>
          <p:cNvCxnSpPr>
            <a:stCxn id="508" idx="3"/>
            <a:endCxn id="509" idx="2"/>
          </p:cNvCxnSpPr>
          <p:nvPr/>
        </p:nvCxnSpPr>
        <p:spPr>
          <a:xfrm flipV="1">
            <a:off x="4723920" y="2437920"/>
            <a:ext cx="724680" cy="5342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0" name=""/>
          <p:cNvCxnSpPr>
            <a:stCxn id="508" idx="3"/>
            <a:endCxn id="511" idx="2"/>
          </p:cNvCxnSpPr>
          <p:nvPr/>
        </p:nvCxnSpPr>
        <p:spPr>
          <a:xfrm flipV="1">
            <a:off x="4724280" y="2437920"/>
            <a:ext cx="2020320" cy="5342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7692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7220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3" idx="2"/>
            <a:endCxn id="508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508" idx="1"/>
            <a:endCxn id="514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8" idx="3"/>
            <a:endCxn id="515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14" idx="1"/>
            <a:endCxn id="516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4" idx="3"/>
            <a:endCxn id="517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7" idx="2"/>
            <a:endCxn id="518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6615-798C-4A45-BD83-FB2CF270BFF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6CE31-DCF9-4BE0-B5C4-818E570159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6" name=""/>
          <p:cNvCxnSpPr>
            <a:stCxn id="527" idx="3"/>
            <a:endCxn id="528" idx="2"/>
          </p:cNvCxnSpPr>
          <p:nvPr/>
        </p:nvCxnSpPr>
        <p:spPr>
          <a:xfrm flipV="1">
            <a:off x="6326280" y="2569320"/>
            <a:ext cx="488160" cy="361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29" name=""/>
          <p:cNvCxnSpPr>
            <a:stCxn id="527" idx="3"/>
            <a:endCxn id="530" idx="2"/>
          </p:cNvCxnSpPr>
          <p:nvPr/>
        </p:nvCxnSpPr>
        <p:spPr>
          <a:xfrm flipV="1">
            <a:off x="6326280" y="2569320"/>
            <a:ext cx="1365840" cy="361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1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27800" y="205740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304040" y="205740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73520" y="205740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1" idx="2"/>
            <a:endCxn id="527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27" idx="1"/>
            <a:endCxn id="532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7" idx="3"/>
            <a:endCxn id="533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2" idx="1"/>
            <a:endCxn id="534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2" idx="3"/>
            <a:endCxn id="535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5" idx="2"/>
            <a:endCxn id="536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B2E7-350F-4459-B0A6-E0B317C4BB1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CED4B-B6DD-492A-8487-7913E09C17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340-3DE6-4E1A-AFA9-0B1AA8CBBFC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7C49A-02ED-4CCF-9163-57D4E2262F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77E-0E65-4FBF-9F52-4A484216515E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54668-FCD7-4D2A-AAD3-63D09BB64C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18DE-D4B9-4E9B-9C2F-492D1510D229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425B1-62B4-4CFF-8BA0-63306AA3D1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20A7-5D80-4D6C-874B-6C1F5B3979B3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667DA-4337-49AC-ACE1-A24D439B6A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61FC-7AC5-47FD-8216-50E151EAD654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F46DF-A473-41F1-A117-7E65A0310D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GUI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T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"/>
          <p:cNvCxnSpPr>
            <a:stCxn id="561" idx="3"/>
            <a:endCxn id="564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"/>
          <p:cNvCxnSpPr>
            <a:stCxn id="561" idx="2"/>
            <a:endCxn id="566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6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T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66" idx="2"/>
            <a:endCxn id="567" idx="0"/>
          </p:cNvCxnSpPr>
          <p:nvPr/>
        </p:nvCxnSpPr>
        <p:spPr>
          <a:xfrm>
            <a:off x="6017760" y="3979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9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A726-2328-4059-A4FE-27D489EB66B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56EC1-299F-4683-859A-F19BA3D9B5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9A9B-8C6A-4E60-9DDB-2CAF9EB828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226B9-0F91-4E63-B33D-89CC3A329C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3F95-154C-4F6C-BFDA-BDD4907EFAA9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BB4C5-3EC6-4D17-B818-36BA976998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315C-812A-47AA-8A7C-1C21C2536CE8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3576C-EF9B-456B-828B-AEB57261A7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9D4D-0FDF-42B3-9470-9675E058B02B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82D75-EA96-48AD-B68E-941767885F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0F76-096E-40CE-9493-A6B975C95862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3F46B-E10D-4E67-B85F-191223D188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Benedikt Stefansson</cp:lastModifiedBy>
  <cp:lastPrinted>1998-03-19T09:02:27Z</cp:lastPrinted>
  <dcterms:modified xsi:type="dcterms:W3CDTF">1998-03-19T09:23:50Z</dcterms:modified>
  <cp:revision>13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