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68688"/>
        <c:axId val="30869574"/>
      </c:barChart>
      <c:catAx>
        <c:axId val="18668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69574"/>
        <c:crosses val="autoZero"/>
        <c:auto val="1"/>
        <c:lblAlgn val="ctr"/>
        <c:lblOffset val="100"/>
        <c:noMultiLvlLbl val="0"/>
      </c:catAx>
      <c:valAx>
        <c:axId val="30869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68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982-FDA5-4E77-8C1E-ECB147D5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E69-D706-4D62-BEB5-B5FAE971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B66-DBC6-4686-8DD6-0A8A211B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B07-C660-454E-B8A6-E46FBB5E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F8E-D4D1-4DCA-8C72-28868B8C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172-4ABC-4C35-B38C-D0D3E708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F4C-9A3A-4A8C-AD3D-8240497E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94D-6EA6-401C-BA3D-E118BE9B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A16-F5B1-4B5D-A744-02585BF4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17E-F3CC-4B43-B560-1EC6090D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386-11DB-48A7-89A8-B2156095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FD1-2A21-4D3D-830D-692968AA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AE952-332F-459D-98CA-BD62D9ADB6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