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74216"/>
        <c:axId val="86130563"/>
      </c:barChart>
      <c:catAx>
        <c:axId val="25874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30563"/>
        <c:crosses val="autoZero"/>
        <c:auto val="1"/>
        <c:lblAlgn val="ctr"/>
        <c:lblOffset val="100"/>
        <c:noMultiLvlLbl val="0"/>
      </c:catAx>
      <c:valAx>
        <c:axId val="86130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74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ECA-9031-4FC6-B501-DA1CFDA3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E4F-0617-4AF8-AB5E-58A964FD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1D5-B860-4846-98DD-8B269E72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B18-0773-41A3-B253-D1616F44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72A-B621-4317-8EEF-129803B8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DAB-6F82-4F96-9015-EFB55F1F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C5C-3109-4224-9AF0-ADF3D8C2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FD9-3A97-426B-B0C3-848B922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843-01D4-4250-A871-4B7D35F5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AAD-7189-483E-AD01-9DB48D0B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31E-4A95-49BE-BBB2-75601EF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429-29E4-4EFF-B7FC-18427882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CC4E-F979-4C34-B13B-0A90BE0FF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