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03218"/>
        <c:axId val="35873760"/>
      </c:barChart>
      <c:catAx>
        <c:axId val="27032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73760"/>
        <c:crosses val="autoZero"/>
        <c:auto val="1"/>
        <c:lblAlgn val="ctr"/>
        <c:lblOffset val="100"/>
        <c:noMultiLvlLbl val="0"/>
      </c:catAx>
      <c:valAx>
        <c:axId val="358737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32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6BEA-F1DD-4925-96B6-3EC31FD8D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6722-CE6C-4EEF-8E1F-5612C201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BA1C-7696-426C-8E27-7BE2C489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AD90-BBB1-4A42-A127-A0760576F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54F3-3AF5-4055-A00C-DDC58C4F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C7F0-DD0E-457E-AF6E-125F3333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F8C6-A77C-456C-A805-CFA20F8E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7D9B-CB74-4222-AC8E-7DD72C87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0059-18A1-4BB2-ACEF-A9C9901A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A0A5-03F3-44BB-A307-99387CE6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B02D-5FBC-441D-B888-D41DF1F5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B33E-8B4E-4814-B2A4-6938987B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B7CA0-9423-42B8-957F-A1C2C3239A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